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DA9-3245-496F-90DF-46FFE3E9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944-E2FA-4F20-AB5A-4382E160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71D-8187-45A5-ABB8-F592F013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C22-FAAD-4623-9A23-002829C5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665-6D9C-47E7-BCAD-39E1F594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D80-2DE5-4E61-B453-F1F597CF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9BD-FC7F-4300-8EF1-3A70A9B7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17A-E9FB-4360-9019-69D2C206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7EB-8E34-4EDD-B772-1873AAE6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155-7049-4983-9CEB-69F80533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9FA-2CC6-4F26-A26C-9DA65E1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D79-EB53-4BC2-8CBC-4AA7CD0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9C40-99AE-4130-A218-7DFE8B3D9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452520"/>
            <a:ext cx="6913800" cy="2400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11280" y="3595680"/>
            <a:ext cx="42483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214" t="1752" r="2252" b="2190"/>
          <a:stretch/>
        </p:blipFill>
        <p:spPr>
          <a:xfrm>
            <a:off x="1403280" y="260280"/>
            <a:ext cx="6193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59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7640" cy="1998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0" r="915" b="0"/>
          <a:stretch/>
        </p:blipFill>
        <p:spPr>
          <a:xfrm>
            <a:off x="682560" y="2565360"/>
            <a:ext cx="7705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6:41:34Z</dcterms:created>
  <dc:creator>Usuario Microsoft</dc:creator>
  <dc:description/>
  <dc:language>en-US</dc:language>
  <cp:lastModifiedBy>Usuario Microsoft</cp:lastModifiedBy>
  <dcterms:modified xsi:type="dcterms:W3CDTF">2007-09-04T16:57:12Z</dcterms:modified>
  <cp:revision>5</cp:revision>
  <dc:subject/>
  <dc:title>Diapositiva 1</dc:title>
</cp:coreProperties>
</file>