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668-202F-4372-BF81-4D9208D1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D88-5618-4123-B666-E127A476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152-A230-4A4A-8D6A-051AC1B3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DFB-A15F-4A33-9D8E-092B8C4A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AAF-6319-4E63-A626-13AAF27C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7CF-CA83-4B0E-A4B9-63FE33F3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C16-4964-4765-85CA-89C16143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881-20D9-4564-9654-BA0F790D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2DC-1AE9-4BD1-B652-9F3A9A54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54A-02A9-4CBE-AEAA-1E421FC7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BAE-D837-4D73-B9A9-F26AF627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8C5-B203-4BCF-8F5C-484CAFBA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B35F-14F1-4AEC-97BC-89C288898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ffff00"/>
                </a:solidFill>
                <a:latin typeface="Arial"/>
              </a:rPr>
              <a:t>Cálc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Teorema de Pitág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Presentado por: 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  Diana Aristizá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Diana Ro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ffff"/>
                </a:solidFill>
                <a:latin typeface="Arial"/>
              </a:rPr>
              <a:t>Presentado a: Míguel LaTo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441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835280" y="620640"/>
            <a:ext cx="5040360" cy="5329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5441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476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ffff00"/>
                </a:solidFill>
                <a:latin typeface="Arial"/>
              </a:rPr>
              <a:t>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4753080" cy="550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5640" y="1844640"/>
            <a:ext cx="777240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Teorema de Pitágoras, teorema que relaciona los tres lados de un triángulo rectángulo, y que establece que el cuadrado del lado mayor (hipotenusa) es igual a la suma de los cuadrados de los otros dos lados (catetos).</a:t>
            </a:r>
            <a:br>
              <a:rPr sz="2000"/>
            </a:br>
            <a:br>
              <a:rPr sz="2000"/>
            </a:b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El teorema de Pitágoras permite calcular uno de los lados de un triángulo rectángulo si se conocen los otros dos. Así, permite calcular la hipotenusa a partir de los dos catetos: </a:t>
            </a:r>
            <a:br>
              <a:rPr sz="2000"/>
            </a:b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o bien, calcular un cateto conocidos la hipotenusa y el otro cateto: </a:t>
            </a:r>
            <a:br>
              <a:rPr sz="2000"/>
            </a:br>
            <a:r>
              <a:rPr b="0" lang="es-CO" sz="2000" spc="-1" strike="noStrike">
                <a:solidFill>
                  <a:srgbClr val="ffffff"/>
                </a:solidFill>
                <a:latin typeface="Arial"/>
              </a:rPr>
              <a:t>b=  </a:t>
            </a:r>
            <a:r>
              <a:rPr b="0" lang="es-CO" sz="2000" spc="-1" strike="noStrike">
                <a:solidFill>
                  <a:srgbClr val="ffffff"/>
                </a:solidFill>
                <a:latin typeface="Symbol"/>
                <a:ea typeface="Symbol"/>
              </a:rPr>
              <a:t></a:t>
            </a:r>
            <a:r>
              <a:rPr b="0" lang="es-C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s-CO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s-CO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c</a:t>
            </a:r>
            <a:r>
              <a:rPr b="0" lang="es-CO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532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5441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fff00"/>
                </a:solidFill>
                <a:latin typeface="Arial"/>
              </a:rPr>
              <a:t>Demostración matemá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8280360" cy="468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5441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69228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fffff"/>
                </a:solidFill>
                <a:latin typeface="Arial"/>
              </a:rPr>
              <a:t>Estos diagramas se pueden utilizar para demostrar el teorema de Pitágoras, que dice que si un triángulo rectángulo tiene catetos A y B e hipotenusa C, entonces A2 + B2 = C2. Las figuras 1 y 2 contienen ambas cuatro triángulos rectángulos con catetos A y B e hipotenusa C. Dado que ambas figuras tienen la misma área, si se eliminan los cuatro triángulos de la figura 1, el área restante debe ser igual a la que queda si se eliminan de la figura 2. En la figura 1, el área restante es A2 + B2, y en la figura 2, es C2. Por tanto, A2 + B2 = C2, lo que demuestra el teorema de Pitág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85441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21:45:38Z</dcterms:created>
  <dc:creator>Juan Carlos Oliveros</dc:creator>
  <dc:description/>
  <dc:language>en-US</dc:language>
  <cp:lastModifiedBy>Juan Carlos Oliveros</cp:lastModifiedBy>
  <dcterms:modified xsi:type="dcterms:W3CDTF">2005-11-14T22:24:56Z</dcterms:modified>
  <cp:revision>4</cp:revision>
  <dc:subject/>
  <dc:title>Diapositiva 1</dc:title>
</cp:coreProperties>
</file>