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694-8A8B-4E4B-B0DB-4B6D2216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9A20-9D12-4327-BCED-8793E4F3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8A4-DF2A-40E8-BAC1-CBA12142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381-0CE4-4AB3-8BA6-CE9E5C1D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E464-B9B6-43C1-B080-17BEF9FE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C3FD-A8E7-42DA-B691-4E4DD64A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79F-8D58-4E4E-8850-FDB283F2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A1C-F3EC-4B16-ABFE-0837AF0C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1B1-F2A0-4515-A15C-B28D5CD2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E75-F3FF-41DF-A1A1-4F9D67F3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F9F-BEF7-4776-86E7-084425E5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C15-F8CC-4989-9858-217BB511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12D8-C7CA-416F-92E5-B291E5957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Arial"/>
              </a:rPr>
              <a:t>TAMIZ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1699920"/>
            <a:ext cx="70581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 una de las etapas finales de la elaboración del humus en un relleno sanitario los residuos orgánicos mezclados con cal son pasados a través de un tamiz para obtener un producto más fin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16:37:33Z</dcterms:created>
  <dc:creator>USUARIO</dc:creator>
  <dc:description/>
  <dc:language>en-US</dc:language>
  <cp:lastModifiedBy>USUARIO</cp:lastModifiedBy>
  <dcterms:modified xsi:type="dcterms:W3CDTF">2007-08-26T16:37:44Z</dcterms:modified>
  <cp:revision>1</cp:revision>
  <dc:subject/>
  <dc:title>TAMIZADO</dc:title>
</cp:coreProperties>
</file>