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EF1-B81B-4DC0-8A4A-2F6511E7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22F-D2CA-4ECA-8F62-AD60E16E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BB8-E662-4CED-ACFD-6C71E62C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E6D-A1BA-491E-92DD-D2115D8E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E08-357E-486E-8C6F-02CCF763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70D-FFAB-4125-84BC-75CFC376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57F-8815-43FE-976F-1EF67FDB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DD3-190D-423E-A9C3-99B156B3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8C2-A3F1-441A-BBCA-45977152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059-AFE9-4335-9D72-ADE6B339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562-24E0-45FB-AB7E-6739E875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693-170F-4348-B11D-30A798B1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D7C8-271A-4C46-BDA0-B06C7ED82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Arial"/>
              </a:rPr>
              <a:t>Separación magnéti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1628280"/>
            <a:ext cx="7264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s la Magnetización, que es el proceso que sirve para separar dos sólidos y que la característica de uno de ellos sea ferroso o tenga propiedades magnéticas. El método consiste en acercar un imán a la mezcla a fin de generar un campo magnético que atraiga al compuesto ferroso dejando solamente al material no ferroso en el contenedor. Por ejemplo: Separar limadura de hierro del azufre: Se acerca un imán a la sustancia y la limadura de hierro se pegará a este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n el caso de la separación manual de los residuos sólidos el material ferroso presente puede ser separado mediante este proce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Las fuerzas magnéticas son producidas por el movimiento de partículas cargadas, como por ejemplo electrones, lo que indica la estrecha relación entre la electricidad y el magnet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16:24:01Z</dcterms:created>
  <dc:creator>USUARIO</dc:creator>
  <dc:description/>
  <dc:language>en-US</dc:language>
  <cp:lastModifiedBy>USUARIO</cp:lastModifiedBy>
  <dcterms:modified xsi:type="dcterms:W3CDTF">2007-08-26T16:26:16Z</dcterms:modified>
  <cp:revision>1</cp:revision>
  <dc:subject/>
  <dc:title>Separación magnética.</dc:title>
</cp:coreProperties>
</file>