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69D-680F-4826-8A4A-0DA4D108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764-AFD2-41C8-A993-E58829EA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FBF-B2A3-43A1-9DBA-F4500490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8AA-0773-4062-A436-83A85D65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84F-9616-4619-AF46-B9425368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3F7-0DFE-4848-932C-4B1548E4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745-211C-4741-9B20-23BAC61A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9AC-7DCF-409B-AE20-0D5181C6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FC5-5D81-4EA1-887A-F124581D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82F-298F-44A0-934E-4D8F4EA5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532-A20E-4FD7-B2A4-65E70682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1925-F4FC-42DC-AF6F-556271A5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21D0-7E1D-44A1-84B7-60CDEF83F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476280"/>
            <a:ext cx="504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SUBLI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34136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mbio de una sustancia del estado sólido al vapor sin pasar por el estado líqu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unas de las moléculas de un sólido pueden vibrar muy rápidamente, vencer las fuerzas de cohesión y escapar como moléculas gaseosas al espacio libre: el sólido se sublima. Inversamente, al chocar estas moléculas gaseosas contra la superficie del sólido, pueden quedar retenidas, condensándose el vapor. El equilibrio que tiene lugar cuando la velocidad de sublimación y la de condensación son iguales se caracteriza por una presión de vapor que depende de la naturaleza del sólido y de la temp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olores característicos de muchas sustancias sólidas, como el yodo, el naftaleno, el yodoformo y los perfumes sólidos, son debidos a que estas sustancias tienen una presión de vapor apreciable a temperatura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ceso de sublimación va acompañado necesariamente de una absorción de energía térmica. Mucho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iduos sólido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ueden sublimar fácilmente debido a la absorción de energía tér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20:31:43Z</dcterms:created>
  <dc:creator>POLICIA NACIONAL</dc:creator>
  <dc:description/>
  <dc:language>en-US</dc:language>
  <cp:lastModifiedBy>USUARIO</cp:lastModifiedBy>
  <dcterms:modified xsi:type="dcterms:W3CDTF">2007-08-25T22:47:33Z</dcterms:modified>
  <cp:revision>5</cp:revision>
  <dc:subject/>
  <dc:title>SUBLIMACIÓN</dc:title>
</cp:coreProperties>
</file>