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613-33D9-469A-93C9-DC6813E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CDC-F9B0-4CF0-A3B6-BCB4467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A61-40D8-4182-8975-E6AC829C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A76-EFD2-4E07-BE34-5FFD3AF5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C50-1490-46D4-A57E-70F2BDC5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FC2-5E54-4B83-A2FC-B4C2FF52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4E9-92EC-422F-9393-36275081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565-D297-44CF-8CB3-C62A5977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9EC-5E90-45FC-8E7A-3C55FB9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368-3DED-45A4-8169-2DDAAED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287-1776-47F7-B3D2-545CB3F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4DA-779C-44CC-AF98-F5523E1B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ff"/>
            </a:gs>
            <a:gs pos="50000">
              <a:srgbClr val="ffffff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9CD793-F143-4AD6-87CE-92297FB79D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ff"/>
            </a:gs>
            <a:gs pos="50000">
              <a:srgbClr val="ffffff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Residuos sólidos orgá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2339640"/>
            <a:ext cx="77868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enen de la materia viva e incluyen restos de alimentos, cáscaras de plátano papa, hortalizas, papel, cartón y estiércol, entre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 considerados desechos de descomposición ráp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ff"/>
            </a:gs>
            <a:gs pos="50000">
              <a:srgbClr val="ffffff"/>
            </a:gs>
            <a:gs pos="100000">
              <a:srgbClr val="ff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Residuos sólidos inorgá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0720" y="2879640"/>
            <a:ext cx="796752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enen de la materia inerte como el vidrio, plásticos, metales, y otros mater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eren de mayor tiempo para descompon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Residuos sólidos orgánicos</dc:title>
</cp:coreProperties>
</file>