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E60A-7D0B-497F-9781-4CFA689FC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658F-E5EB-4F74-BDFB-52B6FB3ED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5056-76A4-441A-A5C3-52C1C19D9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874F-624E-4C52-AEA4-6ED280898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66A1-8B82-4C42-84C6-46E89F207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5C03-32EA-4AA7-A056-39AA87791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6CF5-7ACD-407E-B841-FE2BFC60F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2459-76AF-4CCD-89FD-30A31DE67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1C97-3DA1-45AA-87B3-E5AC28B96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092D-E14B-48CA-B13A-0EA951DB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B454-B491-4CC5-96E9-509021C4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0523-EA2E-4B64-A25E-64C04572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2356A22-D0AE-4D3B-ADD0-92E6FB8EDB4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Residuos sólidos biodegrad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20720" y="2339640"/>
            <a:ext cx="796752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25000"/>
              <a:buFont typeface="Symbol" charset="2"/>
              <a:buChar char="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 descomponen en forma natural en un tiempo relativamente corto. Por ejemplo: los desechos orgánicos como los alimentos, tardan poco tiempo en descomponerse por la acción de los organismos llamados bacterias y hong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46476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Residuos sólidos no biodegrad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00200"/>
          <a:ext cx="4038480" cy="45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403848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00000" y="2339640"/>
            <a:ext cx="778680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25000"/>
              <a:buFont typeface="Symbol" charset="2"/>
              <a:buChar char="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se descomponen fácilmente sino que tardan mucho tiempo en hacerlo. Por ejemplo: el vidrio tarda unos 4.000 años, el plástico tarda de 100 a 1.000 años, una lata de refresco tarda unos 10 años y un chicle unos cinco añ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UARIO</dc:creator>
  <dc:description/>
  <dc:language>en-US</dc:language>
  <cp:lastModifiedBy>USUARIO</cp:lastModifiedBy>
  <cp:revision>0</cp:revision>
  <dc:subject/>
  <dc:title>Residuos sólidos biodegradables</dc:title>
</cp:coreProperties>
</file>