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B61E-C9D0-4DDB-BB92-8CEF95CA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AF6-A999-4256-BF1C-4FFC8CEB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B79-8908-4547-B97B-78108A28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876-BC3E-45DB-8B4D-1274DF5B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912-D795-4F0B-B677-D3ACC812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DEB-8CFD-4FA0-AE41-15883ACC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2A1-4FAA-47C3-8867-612BCBA3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B2F-E3DE-437B-9ED7-F7A5EE7F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A67-9E6E-4ACD-8CEF-DB0A81C7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40E-9F91-41A2-B7F4-57B26789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C73-02A8-4549-97CE-B06C6EA1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F7B-ABED-4C2D-86F8-BABF15B3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FEF4-31A9-44A8-B1B4-BC99679C1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333399"/>
                </a:solidFill>
                <a:latin typeface="Arial"/>
              </a:rPr>
              <a:t>LA INCINERACION DE LA BASURA COMO FUENTE DE CONTAMINACION ATMOSF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63416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algunos sitios la basura se incinera, con lo cual, la materia aparentemente desaparece pronto de nuestra vista, sin embargo, los efectos sobre la atmósfera no se dejan esper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yoría de los incineradores que se usan para producir energía eléctrica son de combustión en masa, que queman basura mezclada, sin separar materiales peligrosos como acumuladores o baterías de automóviles y materiales no combustibles que pueden interferir con las condiciones de combustión y provocar gran contaminación atmosférica. Dinamarca y Suecia queman el 50 % de sus desechos sólidos para producir energía y sólo el 10 % en Estados Unido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cenizas de los incineradores, en general, contienen sustancias peligrosas como dioxinas, ácido clorhídrico, furanos, plomo, mercurio, cadmio y otros metales tóxicos que pueden generar cáncer y trastornos en el sistema nervioso. Sólo en Japón tiran las cenizas en rellenos diseñados para manejar desechos peligro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nstrucción de incineradores es muy costosa, al igual que su operación y mantenimiento. Aún con dispositivos avanzados de control de contaminación, se emiten diversas sustancias tóxicas a la atmósf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ambientalistas se oponen a que se dependa del uso de incineradores porque anima a la gente a continuar arrojando papeles, plásticos y otros materiales que se pueden quemar, en lugar de buscar maneras de conservar, reciclar y reusar esos recursos, y reducir la producción de desechos. Además, los incineradores deben de procesar  una gran cantidad de basura para que sean úti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quema de llantas genera contaminantes atmosféricos como el dióxido de carbono, partículas de hollín, cadmio, arsénico, plomo y zinc; además al quemarlas se produce petróleo crudo que contamina el agua y el suelo cerc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21:22:07Z</dcterms:created>
  <dc:creator>POLICIA NACIONAL</dc:creator>
  <dc:description/>
  <dc:language>en-US</dc:language>
  <cp:lastModifiedBy>USUARIO</cp:lastModifiedBy>
  <dcterms:modified xsi:type="dcterms:W3CDTF">2007-08-25T23:20:10Z</dcterms:modified>
  <cp:revision>2</cp:revision>
  <dc:subject/>
  <dc:title>LA INCINERACION DE LA BASURA COMO FUENTE DE CONTAMINACION ATMOSFERICA</dc:title>
</cp:coreProperties>
</file>