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C38D6-2E73-4D9E-BB27-102E35472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C16CC-7AC5-414E-8EFE-F6E443A51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C3BEB-FADD-4A9F-8484-7032B27B2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3DAAF-F005-4D69-9DFC-5E365B34E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94369-D252-43E0-B26C-9478260F0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07124-1597-4671-926D-59418354C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06E54-BB3D-49E5-84D7-F257D569A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1E4C1-43E6-468A-905F-8F730C5B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82489-AF68-4B99-85C2-1575DA9B4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1426F-E60E-49EA-A71D-DE5E9969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8C68-D557-4F65-AA70-2125A880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2669-E4E5-4E70-AD39-5AA30B6B0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AC15-CC4E-42C2-9ED9-3202C49B44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cc0000"/>
                </a:solidFill>
                <a:latin typeface="Arial"/>
              </a:rPr>
              <a:t>FERMENTACIÓN DE LOS RESIDUOS SÓLIDOS</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fermentación hace referencia a cambios químicos en las sustancias orgánicas producidos por la acción de las enzimas (fermentos) generadas por mohos, bacterias y levadur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mente, la fermentación produce la descomposición de sustancias orgánicas complejas en otras simples gracias a una acción cat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9640" y="836640"/>
            <a:ext cx="8229600" cy="5113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Los residuos orgánicos en nuestros vertederos y rellenos sanitarios se descomponen por acción bacteriana en contacto con el aire y por variación térmica produciéndose de esta manera el proceso de </a:t>
            </a:r>
            <a:r>
              <a:rPr b="1" lang="en-US" sz="2400" spc="-1" strike="noStrike">
                <a:solidFill>
                  <a:srgbClr val="000000"/>
                </a:solidFill>
                <a:latin typeface="Arial"/>
              </a:rPr>
              <a:t>fermentación</a:t>
            </a:r>
            <a:r>
              <a:rPr b="0" lang="en-US" sz="2400" spc="-1" strike="noStrike">
                <a:solidFill>
                  <a:srgbClr val="000000"/>
                </a:solidFill>
                <a:latin typeface="Arial"/>
              </a:rPr>
              <a:t> de manera natur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ando éste proceso termina al cabo de varios días, se deposita de nuevo más basura encima, de ahí que la descarga todos los días en el relleno se haga por sectores o zonas, para lograr una buena fermentación de los residu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resultado del proceso se liberan gases y ácidos  al amb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3">
                                            <p:txEl>
                                              <p:pRg st="3" end="3"/>
                                            </p:txEl>
                                          </p:spTgt>
                                        </p:tgtEl>
                                        <p:attrNameLst>
                                          <p:attrName>style.visibility</p:attrName>
                                        </p:attrNameLst>
                                      </p:cBhvr>
                                      <p:to>
                                        <p:strVal val="visible"/>
                                      </p:to>
                                    </p:set>
                                    <p:anim calcmode="lin" valueType="num">
                                      <p:cBhvr additive="base">
                                        <p:cTn id="25"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3">
                                            <p:txEl>
                                              <p:pRg st="4" end="4"/>
                                            </p:txEl>
                                          </p:spTgt>
                                        </p:tgtEl>
                                        <p:attrNameLst>
                                          <p:attrName>style.visibility</p:attrName>
                                        </p:attrNameLst>
                                      </p:cBhvr>
                                      <p:to>
                                        <p:strVal val="visible"/>
                                      </p:to>
                                    </p:set>
                                    <p:anim calcmode="lin" valueType="num">
                                      <p:cBhvr additive="base">
                                        <p:cTn id="31"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21:23:14Z</dcterms:created>
  <dc:creator>POLICIA NACIONAL</dc:creator>
  <dc:description/>
  <dc:language>en-US</dc:language>
  <cp:lastModifiedBy>USUARIO</cp:lastModifiedBy>
  <dcterms:modified xsi:type="dcterms:W3CDTF">2007-08-26T17:28:15Z</dcterms:modified>
  <cp:revision>5</cp:revision>
  <dc:subject/>
  <dc:title>FERMENTACIÓN DE LOS RESIDUOS SÓLIDOS</dc:title>
</cp:coreProperties>
</file>