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8D108-1FD0-4C89-BD91-D6D8FDD0D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48DE6-A176-40B6-8844-380438AD4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6CFB3-8E2F-4BB4-B630-4AD946A04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07E6F-9D77-4149-8E83-BA7C0D8C0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A6681-0564-446B-91F6-95D36752D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7927F-F854-41E9-AB3B-20B151E89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8146B-819D-428E-8319-F12BE6F3B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79F6E-34D0-4E21-9B9C-8C9C0FEE5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EF1FC-D175-4368-9CC6-169E19E8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D789-3D98-4228-BBE8-1EAB5970F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E8BFB-9D50-4C87-9420-421F50A6B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58A70-F0CD-4A67-AA2F-E7262B779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1b4e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F4D7-1C74-4ADB-BBD6-723867DB1A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1b4e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6ca8a"/>
                </a:solidFill>
                <a:latin typeface="Arial"/>
              </a:rPr>
              <a:t>Control de los lixiviados o percolados</a:t>
            </a:r>
            <a:br>
              <a:rPr sz="4000"/>
            </a:br>
            <a:endParaRPr b="0" lang="en-US" sz="3200" spc="-1" strike="noStrike">
              <a:solidFill>
                <a:srgbClr val="000000"/>
              </a:solidFill>
              <a:latin typeface="Arial"/>
            </a:endParaRPr>
          </a:p>
        </p:txBody>
      </p:sp>
      <p:sp>
        <p:nvSpPr>
          <p:cNvPr id="42" name="PlaceHolder 2"/>
          <p:cNvSpPr>
            <a:spLocks noGrp="1"/>
          </p:cNvSpPr>
          <p:nvPr>
            <p:ph/>
          </p:nvPr>
        </p:nvSpPr>
        <p:spPr>
          <a:xfrm>
            <a:off x="468360" y="1484280"/>
            <a:ext cx="8229600" cy="4353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o consecuencia de la impermeabilización del relleno sanitario, se acumulan en este una gran cantidad de líquidos percolados, los cuales deben ser manejados en forma apropiada. Es importante tener en el relleno sanitario los elementos necesarios para mantener un control total de los lixiviados, estos pueden ir desde almacenamientos en lagunas para luego recircularlos con equipos de bombeo, hasta sistemas de drenaje al interior del relleno, depósitos de almacenamiento y tratamiento químico y/o biológ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1b4ed"/>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Es importante establecer un sistema de monitoreo rutinario que permita detectar y anticipar un eventual paso de líquidos percolados a través del terreno y subsecuentemente adoptar las medidas preventivas y correctivas que corresponda para evitar riesgos a la población, por consumo de agua de mala calid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1T23:28:56Z</dcterms:created>
  <dc:creator>USUARIO</dc:creator>
  <dc:description/>
  <dc:language>en-US</dc:language>
  <cp:lastModifiedBy>USUARIO</cp:lastModifiedBy>
  <dcterms:modified xsi:type="dcterms:W3CDTF">2007-08-25T23:36:32Z</dcterms:modified>
  <cp:revision>3</cp:revision>
  <dc:subject/>
  <dc:title> Control de los lixiviados o percolados </dc:title>
</cp:coreProperties>
</file>