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259-02F1-4BD0-89B4-3FE791E8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700-28A0-4ED2-B08D-2B193119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B5B-FADF-406D-9425-1AA69123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912-CF2D-40EC-9E41-AC8EE9E2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16E-023E-492B-AC2F-A11A0D27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FA2-2E3E-409B-AD30-FCBD99A9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7C5-0E98-482B-B6FE-CDEBBED0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5E2-C9AE-4A8B-A7E4-24DDBBF3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9EF-F1AD-46D4-9E22-ED82BD3A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A54-7E5F-4B7C-9C5D-6FD8A67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4A5-C610-4B72-BC9A-5272481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353-AA62-4472-BF04-940B9FF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1F4A-EF6F-448A-8524-3521CA542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sición de líquidos percolados de un relleno sanitario con desechos doméstic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916280"/>
            <a:ext cx="42908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20:28:09Z</dcterms:created>
  <dc:creator>POLICIA NACIONAL</dc:creator>
  <dc:description/>
  <dc:language>en-US</dc:language>
  <cp:lastModifiedBy>USUARIO</cp:lastModifiedBy>
  <dcterms:modified xsi:type="dcterms:W3CDTF">2007-08-26T16:05:28Z</dcterms:modified>
  <cp:revision>2</cp:revision>
  <dc:subject/>
  <dc:title>Composición de líquidos percolados de un relleno sanitario con desechos domésticos </dc:title>
</cp:coreProperties>
</file>