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ACA-FFA9-4C90-85D1-94C458CA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BE45-76E6-4A9E-8FF3-6CAF183E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3361-43BC-42CE-887A-A96315F7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ACA-8110-4959-8625-453F6619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C72-279A-42F0-98DD-3E224490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CD29-B7D8-4E97-864B-2B76D779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CE33-C61F-4E02-BCA4-DE4B804B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9232-56BF-4F98-91A6-193EF64E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C295-5A37-4C3C-AE38-18532F72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691-9BD2-4191-8820-2F194F0D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CE2F-0FE8-471A-B416-95D22171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DF34-E4AA-444E-8634-56F81194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CD2FA1-DD51-4CCF-B000-4A4A379845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9999"/>
                </a:solidFill>
                <a:latin typeface="Arial"/>
              </a:rPr>
              <a:t>Componentes del bioga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79640" y="1700280"/>
            <a:ext cx="5543640" cy="394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UARIO</dc:creator>
  <dc:description/>
  <dc:language>en-US</dc:language>
  <cp:lastModifiedBy>USUARIO</cp:lastModifiedBy>
  <cp:revision>0</cp:revision>
  <dc:subject/>
  <dc:title>Componentes del biogás </dc:title>
</cp:coreProperties>
</file>