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BBA-0267-45CF-98CB-700B81AB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E4E-4A17-4A74-8076-3AB109B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10D-7A96-420C-BAE8-FEF42CF1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99A-AE7D-45B0-937C-74F719C7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085-83FD-4D60-91BA-6533C3FC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8E5-319B-41F2-A123-079C633B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286-47F3-4D50-BD58-FB8EFE3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879-DFE0-47F1-98AA-3EB41B4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F5F-6AA7-40B9-A9C2-D119D22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D91-FAA6-42EF-8268-623647E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E08-725D-48B5-93C2-63CC7F8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AF8-3BC8-4639-8838-8F21F15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32D8E-8AC3-460A-BDC5-04992BFBF3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COMPOSICION DE LOS RES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79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 denomina residuo sólido a un objeto, material o elemento que se rechaza después de ser utilizado o aprovechado y que puede tener o carecer de valor comercial. Los residuos domésticos o R.S.U.  se generan en los hogares, comercios, oficinas, centros comerciales, etc. También se incluyen los enseres voluminosos y otros asimilables a urbanos como jardinería etc., sin embargo no son R.S.U los escombros, residuos de hospitales, desechos tóxicos de industria, talleres, ni los residuos de ganadería, agricultura o min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COMPOSICIÓN PRO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95640" y="1484280"/>
            <a:ext cx="4898880" cy="4654440"/>
            <a:chOff x="2195640" y="1484280"/>
            <a:chExt cx="4898880" cy="4654440"/>
          </a:xfrm>
        </p:grpSpPr>
        <p:sp>
          <p:nvSpPr>
            <p:cNvPr id="45" name=""/>
            <p:cNvSpPr/>
            <p:nvPr/>
          </p:nvSpPr>
          <p:spPr>
            <a:xfrm>
              <a:off x="4608360" y="574200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95640" y="574200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To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08360" y="534672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,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5640" y="534672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Va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08360" y="495144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0,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5640" y="495144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ilas y Bater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08360" y="455616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4,7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55616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eniza y tier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08360" y="416088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,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5640" y="416088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et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08360" y="376560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7,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95640" y="376560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Vid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8360" y="337032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3,7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5640" y="337032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lás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08360" y="297504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1,6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95640" y="297504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Texti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08360" y="257976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38,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95640" y="257976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apel y cart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08360" y="2184480"/>
              <a:ext cx="248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25,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95640" y="2184480"/>
              <a:ext cx="241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Materia Orgá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8360" y="1484280"/>
              <a:ext cx="2484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CIÓN PORCENTUAL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5640" y="1484280"/>
              <a:ext cx="24127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MB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5640" y="1484280"/>
              <a:ext cx="489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640" y="61372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95640" y="1484280"/>
              <a:ext cx="144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3080" y="1484280"/>
              <a:ext cx="144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5640" y="21844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8360" y="1484280"/>
              <a:ext cx="1800" cy="46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5640" y="257976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640" y="297504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5640" y="337032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640" y="376560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640" y="416088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640" y="455616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5640" y="495144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95640" y="534672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5640" y="5742000"/>
              <a:ext cx="489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cccc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 importante tener en cuenta la caracterización de los Residuos sólidos Urbanos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teria Orgánic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tos procedentes de la limpieza o preparación de al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pel y Cartó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ódicos, revistas, publicidad, cajas, embalaj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ástico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ellas, bolsas, embalajes, platos, vasos, cubiertos, Desechab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dri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tellas, frascos diversos, vajillas rota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tale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entes de cubiertos, trozos ferrosos y no ferroso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COMPOSICION DE LOS RESIDUOS</dc:title>
</cp:coreProperties>
</file>