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F5F-E238-4BD1-96EE-E64EBC19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699-DCEC-44B6-9C0E-D3C5807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7CB-E86B-45A4-A445-179880A9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F62-E856-45F9-8B0A-6C80D29E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B141-6661-4902-9024-90DB8502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8B2A-5B6A-4A6C-AAC3-65F43D48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6421-E76D-4FBE-BF18-92DFF0FE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B52B-281E-4DC7-A0D9-8B9BD15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4C21-A06D-44E8-BB53-340F1C68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2B88-BEE5-4C41-88E4-1CEB9F6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88A3-AC21-4645-A1CF-EC4E24E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D5B-8330-45CA-B619-3B25FC5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8100-A9DF-496E-8BFD-1B5C7610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4137-2F0F-434D-A687-5CA3EC8A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A0FA-AC13-4216-B7F0-C8DBBF0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5BA0-FB9A-4B57-A803-958908BD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6C31-0D6E-4EB7-B3F5-BB5B3CB4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6E9-9A31-42FD-8099-7D02C8F6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104-1967-414D-BD0A-8D9E72C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D07-423A-4BA5-AAF5-55D67DD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AE4-56CC-48E1-8E54-5A066955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A74-585A-404D-A69F-88AEB0B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2C3-6835-47E1-8892-981453C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343-670A-4EA0-AF37-B2051705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CB4A-40C9-4A60-86E3-FFD08EE6A4B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005F-4C49-48CA-8C3D-35A3CB02071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Observador" TargetMode="External"/><Relationship Id="rId2" Type="http://schemas.openxmlformats.org/officeDocument/2006/relationships/hyperlink" Target="http://es.wikipedia.org/wiki/N&#250;mero" TargetMode="External"/><Relationship Id="rId3" Type="http://schemas.openxmlformats.org/officeDocument/2006/relationships/hyperlink" Target="http://es.wikipedia.org/wiki/Unidad_de_medida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&#237;sica_cl&#225;sica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Velocidad" TargetMode="External"/><Relationship Id="rId2" Type="http://schemas.openxmlformats.org/officeDocument/2006/relationships/hyperlink" Target="http://es.wikipedia.org/wiki/Fuerza" TargetMode="External"/><Relationship Id="rId3" Type="http://schemas.openxmlformats.org/officeDocument/2006/relationships/hyperlink" Target="http://es.wikipedia.org/wiki/Aceleraci&#243;n" TargetMode="Externa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etro" TargetMode="External"/><Relationship Id="rId2" Type="http://schemas.openxmlformats.org/officeDocument/2006/relationships/hyperlink" Target="http://es.wikipedia.org/wiki/Segundo_%28unidad_de_tiempo%29" TargetMode="External"/><Relationship Id="rId3" Type="http://schemas.openxmlformats.org/officeDocument/2006/relationships/hyperlink" Target="http://es.wikipedia.org/wiki/Cesio" TargetMode="External"/><Relationship Id="rId4" Type="http://schemas.openxmlformats.org/officeDocument/2006/relationships/hyperlink" Target="http://es.wikipedia.org/wiki/Kilogramo" TargetMode="External"/><Relationship Id="rId5" Type="http://schemas.openxmlformats.org/officeDocument/2006/relationships/hyperlink" Target="http://es.wikipedia.org/wiki/Oficina_Internacional_de_Pesas_y_Medida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uperficie" TargetMode="External"/><Relationship Id="rId2" Type="http://schemas.openxmlformats.org/officeDocument/2006/relationships/hyperlink" Target="http://es.wikipedia.org/wiki/Volumen_%28f&#237;sica%29" TargetMode="External"/><Relationship Id="rId3" Type="http://schemas.openxmlformats.org/officeDocument/2006/relationships/hyperlink" Target="http://es.wikipedia.org/wiki/Velocidad" TargetMode="External"/><Relationship Id="rId4" Type="http://schemas.openxmlformats.org/officeDocument/2006/relationships/hyperlink" Target="http://es.wikipedia.org/wiki/Aceleraci&#243;n" TargetMode="External"/><Relationship Id="rId5" Type="http://schemas.openxmlformats.org/officeDocument/2006/relationships/hyperlink" Target="http://es.wikipedia.org/wiki/Densidad" TargetMode="External"/><Relationship Id="rId6" Type="http://schemas.openxmlformats.org/officeDocument/2006/relationships/hyperlink" Target="http://es.wikipedia.org/wiki/Frecuencia_%28f&#237;sica%29" TargetMode="External"/><Relationship Id="rId7" Type="http://schemas.openxmlformats.org/officeDocument/2006/relationships/hyperlink" Target="http://es.wikipedia.org/wiki/Fuerza" TargetMode="External"/><Relationship Id="rId8" Type="http://schemas.openxmlformats.org/officeDocument/2006/relationships/hyperlink" Target="http://es.wikipedia.org/wiki/Presi&#243;n" TargetMode="External"/><Relationship Id="rId9" Type="http://schemas.openxmlformats.org/officeDocument/2006/relationships/hyperlink" Target="http://es.wikipedia.org/wiki/Trabajo_%28f&#237;sica%29" TargetMode="External"/><Relationship Id="rId10" Type="http://schemas.openxmlformats.org/officeDocument/2006/relationships/hyperlink" Target="http://es.wikipedia.org/wiki/Calor" TargetMode="External"/><Relationship Id="rId11" Type="http://schemas.openxmlformats.org/officeDocument/2006/relationships/hyperlink" Target="http://es.wikipedia.org/wiki/Potencia" TargetMode="External"/><Relationship Id="rId12" Type="http://schemas.openxmlformats.org/officeDocument/2006/relationships/hyperlink" Target="http://es.wikipedia.org/wiki/Carga_el&#233;ctrica" TargetMode="External"/><Relationship Id="rId13" Type="http://schemas.openxmlformats.org/officeDocument/2006/relationships/hyperlink" Target="http://es.wikipedia.org/wiki/Diferencia_de_potencial" TargetMode="External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istema_cegesimal" TargetMode="External"/><Relationship Id="rId2" Type="http://schemas.openxmlformats.org/officeDocument/2006/relationships/hyperlink" Target="http://es.wikipedia.org/wiki/Cent&#237;metro" TargetMode="External"/><Relationship Id="rId3" Type="http://schemas.openxmlformats.org/officeDocument/2006/relationships/hyperlink" Target="http://es.wikipedia.org/wiki/Gramo" TargetMode="External"/><Relationship Id="rId4" Type="http://schemas.openxmlformats.org/officeDocument/2006/relationships/hyperlink" Target="http://es.wikipedia.org/wiki/Segundo_%28unidad_de_tiempo%29" TargetMode="External"/><Relationship Id="rId5" Type="http://schemas.openxmlformats.org/officeDocument/2006/relationships/hyperlink" Target="http://es.wikipedia.org/wiki/Sistema_Ingl&#233;s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356000" y="172080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es aquella propiedad de los sistemas físicos que puede ser medida o estimada por un </a:t>
            </a:r>
            <a:r>
              <a:rPr b="0" lang="es-CO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observador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 o </a:t>
            </a:r>
            <a:r>
              <a:rPr b="0" lang="es-CO" sz="2400" spc="-1" strike="noStrike">
                <a:solidFill>
                  <a:srgbClr val="e4005c"/>
                </a:solidFill>
                <a:latin typeface="Arial"/>
              </a:rPr>
              <a:t>aparato de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e4005c"/>
                </a:solidFill>
                <a:latin typeface="Arial"/>
              </a:rPr>
              <a:t>medida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,y se puede expresar mediante un </a:t>
            </a:r>
            <a:r>
              <a:rPr b="0" lang="es-CO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número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 y una </a:t>
            </a:r>
            <a:r>
              <a:rPr b="0" lang="es-CO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unidad de medida</a:t>
            </a:r>
            <a:r>
              <a:rPr b="0" lang="es-CO" sz="24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042920" y="1628640"/>
            <a:ext cx="2884680" cy="525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11280" y="6890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4005c"/>
                </a:solidFill>
                <a:latin typeface="Arial"/>
              </a:rPr>
              <a:t>MAGNITUD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836640"/>
            <a:ext cx="5616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gnitudes escalar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son magnitudes caracterizadas por un valor numérico y una unidad y carecen de dirección y sentido, como por ejemplo, la m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física clásica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 la masa, la energía, la temperatura o la densidad de un cuerpo son magnitudes esca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64080" y="4149720"/>
            <a:ext cx="29239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43280" y="143352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gnitudes vectorial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son magnitudes que cuentan con: cantidad, dirección y sentido como, por ejemplo, la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velocidad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, la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fuerza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, la </a:t>
            </a:r>
            <a:r>
              <a:rPr b="0" lang="en-US" sz="2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aceleración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, etc. Se representan mediante una flecha o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656160" y="4367160"/>
            <a:ext cx="1830240" cy="114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65960" y="3836880"/>
            <a:ext cx="17064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54200" y="907920"/>
            <a:ext cx="626580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4005c"/>
                </a:solidFill>
                <a:latin typeface="Arial"/>
              </a:rPr>
              <a:t>MAGNITUDES Y UNIDAD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Longitud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metr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(m). El metro es la distancia recorrida por la luz en el vacío en 1/299 792 458 segundos. Este patrón fue establecido en año de 198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Tiemp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segund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(s). El segundo es la duración de 9 192 631 770 períodos de la radiación correspondiente a la transición entre los dos niveles hiperfinos del estado fundamental d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cesi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-133. Este patrón fue establecido en el año de 196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Masa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kilogram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(kg). El kilogramo es la masa de un cilindro de aleación de Platino-Iridio depositado en la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Oficina Internacional de Pesas y Medidas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. Este patrón fue establecido en el año de 188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21080" y="981000"/>
            <a:ext cx="5111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MAGNITUDES FÍSICAS DERIV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 pueden expresar como combinación de las magnitudes fundamen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gnitudes  derivadas frecuentes son: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superficie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volumen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velocidad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aceleración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densidad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frecuenci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fuerz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presión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trabajo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calor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1"/>
              </a:rPr>
              <a:t>potenci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2"/>
              </a:rPr>
              <a:t>carga eléctrica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13"/>
              </a:rPr>
              <a:t>diferencia de potencial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, etcét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62064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3564000" y="4724280"/>
            <a:ext cx="1773000" cy="1824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6443640" y="50846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29080" y="1508040"/>
            <a:ext cx="55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Sistema Internacional de Unidades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SI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Es el sistema más usado. Sus unidades básicas son: el metro, el kilogramo, el segun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Sistema Cegesimal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o </a:t>
            </a:r>
            <a:r>
              <a:rPr b="1" lang="es-CO" sz="1800" spc="-1" strike="noStrike">
                <a:solidFill>
                  <a:srgbClr val="0000cc"/>
                </a:solidFill>
                <a:latin typeface="Arial"/>
              </a:rPr>
              <a:t>CGS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.: Denominado así porque sus unidades básicas son 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centímetr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, 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gram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 y el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segundo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Sistema Inglés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: Aún utilizado en los países anglosajones. Muchos de ellos lo están intentando reemplazar por el Sistema Internacional de Unidades. Sus unidades básicas son :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</a:rPr>
              <a:t>la pulgada</a:t>
            </a:r>
            <a:r>
              <a:rPr b="0" lang="es-CO" sz="18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es-CO" sz="1800" spc="-1" strike="noStrike" u="sng">
                <a:solidFill>
                  <a:srgbClr val="e4005c"/>
                </a:solidFill>
                <a:uFillTx/>
                <a:latin typeface="Arial"/>
              </a:rPr>
              <a:t>el slug, y el seg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2737080" cy="41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620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005c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48428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EN PEQUEÑOS  GRUPOS DETERMINA QUE TIPO DE RESIDUOS SÓLIDOS SE PRODUCEN EN TU COLE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2852640"/>
            <a:ext cx="32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. AL FINALIZAR LA JORNADA , CLASIFÍCAL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39337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 MIDE  LA MASA  Y EL VOLUMEN QUE OCUPAN CADA UNO DURANTE UNA SE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522936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4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. IDENTIFICA PRIMERO LOS INSTRUMENTOS Y UNIDADES A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91448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2232000" cy="2346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43280" y="692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REALIZA UNA GRÁFICA DE MASA CONTRA VOLUMEN Y DETERMINA LA DENSIDAD DEL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2637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CALCULA CUANTA MASA Y VOLUMEN  DE CADA RESIDUO SÓLIDO SE PRODUCIRÍA EN UN MES , EN UN AÑ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4005c"/>
                </a:solidFill>
                <a:latin typeface="Arial"/>
              </a:rPr>
              <a:t>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cc"/>
                </a:solidFill>
                <a:latin typeface="Arial"/>
              </a:rPr>
              <a:t>PRESENTA TU INFORME Y CONCLUSIONES POR ESCR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0:55:16Z</dcterms:created>
  <dc:creator>doctorado</dc:creator>
  <dc:description/>
  <dc:language>en-US</dc:language>
  <cp:lastModifiedBy>Chicos</cp:lastModifiedBy>
  <dcterms:modified xsi:type="dcterms:W3CDTF">2006-11-08T04:16:10Z</dcterms:modified>
  <cp:revision>12</cp:revision>
  <dc:subject/>
  <dc:title>Diapositiva 1</dc:title>
</cp:coreProperties>
</file>