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258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2928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623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623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623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623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DAF62-BE68-40F7-88B2-06CF72264286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10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10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06640" y="812880"/>
            <a:ext cx="533556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10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10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10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10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10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10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10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10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108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B11D-16C7-4A73-8769-8F4B0DA4F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" y="295200"/>
            <a:ext cx="90536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36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536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AD4E-B165-4BB0-903A-17CB1CB7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295200"/>
            <a:ext cx="90536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7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2240" y="1768320"/>
            <a:ext cx="4417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17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2240" y="4374000"/>
            <a:ext cx="4417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5C13-D3A1-452D-AA8E-96500175A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2920" y="295200"/>
            <a:ext cx="90536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4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4000" y="1768320"/>
            <a:ext cx="2914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25080" y="1768320"/>
            <a:ext cx="2914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4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4000" y="4374000"/>
            <a:ext cx="2914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25080" y="4374000"/>
            <a:ext cx="2914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2799-00F3-4026-A9B0-FFCD386C2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295200"/>
            <a:ext cx="90536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536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AF08-6E4E-4FF9-9E98-6D47854B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295200"/>
            <a:ext cx="90536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36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88B0-666A-42F7-BA52-0AD6AEE9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295200"/>
            <a:ext cx="90536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7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2240" y="1768320"/>
            <a:ext cx="4417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7666-46B1-4977-B6F4-F0D4B2F1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295200"/>
            <a:ext cx="90536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C3AC-4B5C-4088-9923-DAFE7EE3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2920" y="295200"/>
            <a:ext cx="90536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334A-1918-4FCD-8069-4204DECC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295200"/>
            <a:ext cx="90536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7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2240" y="1768320"/>
            <a:ext cx="4417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17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37D4-322E-4634-BD40-157A1668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295200"/>
            <a:ext cx="90536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7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2240" y="1768320"/>
            <a:ext cx="4417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2240" y="4374000"/>
            <a:ext cx="4417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3055-F013-47A3-BAE0-8B97EFF7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295200"/>
            <a:ext cx="90536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7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2240" y="1768320"/>
            <a:ext cx="4417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536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ED2A-E47E-4887-BD71-33E1E509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gradFill rotWithShape="0">
            <a:gsLst>
              <a:gs pos="0">
                <a:srgbClr val="e6e64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295200"/>
            <a:ext cx="90536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536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46000" indent="-28260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78000" indent="-21276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09640" indent="-19836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41640" indent="-20016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41640" indent="-20016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41640" indent="-20016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288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766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288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94783-248A-46FA-A36A-05FE6B803E72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9640" y="2479680"/>
            <a:ext cx="907272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ANEJO Y TRANSFORMACIÓN DE RESIDUOS SÓLIDO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COLEGIO NUESTRA SEÑORA DE FÁTIM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Popayán - Colombi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Septiembre de 2007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863640" y="755640"/>
            <a:ext cx="42480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181080"/>
            <a:ext cx="7704360" cy="71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opyright © Foto tomada por Claudia Castro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imágen051.jpg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http://www.lagatadepaseo.com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abuela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http://www.guia-latina.com/g g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Ninas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Alba Ausecha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paisaje8.jpg 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NLACES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ww.geocities.com/camp_pro_amb/Basura.htm www.vinculando.orgwww.tkfsa.com.co/publicaciones.php?id=2096&amp;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www.bichosverdes.org/Submarino.JPG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xataka.com/images/2007/08/Mju%20820%20front%20blue%20JPG.jpg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www2.uca.es/serv/oficinaverde/overde2/media/gestion/papel.gif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www.guia-latina.com/graphics/Ninas.jpg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www.bichosverdes.org/Submarino.JPG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www.turcon.org/drupal/files/images/botellas-vidrio_1.gif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www.ads.gobierno.pr/secciones/avisos/imagenes/vertederos-foto-190.jpg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elbocarte.com/home/elbocar/public_html/www.google.es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www.conama.cl/portal/1089/articles-28396_recurso_1.gif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www.navarini.com/petf4.jpg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www.fundases.com/fotos/desechos-organicos02.jpg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www.dmsgbc.sld.cu/oinform/images/Botella%20de%20vidrio.jpg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www.yoreciclo.cl/images/latas_aluminio.jpg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www.insumospacheco.com.ar/caja.jpg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9280" y="1008000"/>
            <a:ext cx="9063000" cy="60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16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plantahydro.com/catalog/images/latas_refresco.jpg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16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img.boonic.com/c/197.jpg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16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avidos.net/detalles/imagenes/camisetascruzroja.jpg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16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manueljodar.com/pua/Imagen/el%20papel.jpg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16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igooh.com.ar/ImgsNotas/5495.jpg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16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sernac.cl/sernacninos/buenconsumidor/img/reciclaje.jpg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16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nisu.blogia.com/upload/20060727185511-bolas-papel.jpg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16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canales.laverdad.es/especiales/vertederos/img/basura_grande.jpg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16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focuslogo.com.ar/productos/fotos/DK138_calculadora.jpg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16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aguileraweb.com/images/fv033l.jpg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16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kristal97.com/imagenes/productos/vasos-02.jpg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16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html.rincondelvago.com/files/6/4/6/000126460.png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16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carta 2007 Biblioteca Premium, la simetría del cristal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16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carta 2007 Biblioteca Premium, reciclado de periódicos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16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carta 2007 Biblioteca Premium, el color del plástico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168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carta 2007 Biblioteca Premium, recipiente diseñado por Simon Gate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02920" y="533160"/>
            <a:ext cx="9072360" cy="63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Autores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Claudia Castro Guerrrero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Gloria Muñoz Belalcázar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Alba  Ausecha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Gisela Concha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Lourdes Valencia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Asesores: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Alejandra María Narváez Camayo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Isabel Cristina Alvarez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Miguel Corchuelo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Ulises Hernández Pino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Nancy Cucuñame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Contribuciones: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Est. Gloria Patiño – Grado 10A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Est. Andrés Macias – Grado 10B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Estudiantes Grado 10 - Año 2007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04720" y="720720"/>
            <a:ext cx="9072720" cy="59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414360" indent="-204840" algn="ctr">
              <a:lnSpc>
                <a:spcPct val="79000"/>
              </a:lnSpc>
              <a:tabLst>
                <a:tab algn="l" pos="0"/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9398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DejaVu Sans"/>
                <a:ea typeface="DejaVu Sans"/>
              </a:rPr>
              <a:t>Trabajo realizado en el marco del proyecto “</a:t>
            </a:r>
            <a:r>
              <a:rPr b="1" lang="en-GB" sz="2600" spc="-1" strike="noStrike">
                <a:solidFill>
                  <a:srgbClr val="000000"/>
                </a:solidFill>
                <a:latin typeface="DejaVu Sans"/>
                <a:ea typeface="DejaVu Sans"/>
              </a:rPr>
              <a:t>Modelo de conformación de una red de aprendizaje de las ciencias con enfoque CTS + I en la educación media</a:t>
            </a:r>
            <a:r>
              <a:rPr b="0" lang="en-GB" sz="2600" spc="-1" strike="noStrike">
                <a:solidFill>
                  <a:srgbClr val="000000"/>
                </a:solidFill>
                <a:latin typeface="DejaVu Sans"/>
                <a:ea typeface="DejaVu Sans"/>
              </a:rPr>
              <a:t>” (Colciencias 1103-11-17051) desarrollado por las Universidades de Cauca y Pedagógica Nacional, cofinanciado por Colciencias y con el apoyo de la Corporación Autónoma Regional del Cauca.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lvl="1" marL="414360" indent="-204840" algn="ctr">
              <a:lnSpc>
                <a:spcPct val="79000"/>
              </a:lnSpc>
              <a:tabLst>
                <a:tab algn="l" pos="0"/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9398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lvl="1" marL="414360" indent="-204840" algn="ctr">
              <a:lnSpc>
                <a:spcPct val="79000"/>
              </a:lnSpc>
              <a:tabLst>
                <a:tab algn="l" pos="0"/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9398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lvl="1" marL="414360" indent="-204840" algn="ctr">
              <a:lnSpc>
                <a:spcPct val="79000"/>
              </a:lnSpc>
              <a:tabLst>
                <a:tab algn="l" pos="0"/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9398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lvl="1" marL="414360" indent="-204840" algn="ctr">
              <a:lnSpc>
                <a:spcPct val="79000"/>
              </a:lnSpc>
              <a:tabLst>
                <a:tab algn="l" pos="0"/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9398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lvl="1" marL="414360" indent="-204840" algn="ctr">
              <a:lnSpc>
                <a:spcPct val="79000"/>
              </a:lnSpc>
              <a:tabLst>
                <a:tab algn="l" pos="0"/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9398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lvl="1" marL="414360" indent="-204840" algn="ctr">
              <a:lnSpc>
                <a:spcPct val="79000"/>
              </a:lnSpc>
              <a:tabLst>
                <a:tab algn="l" pos="0"/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9398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 lvl="1" marL="414360" indent="-204840" algn="ctr">
              <a:lnSpc>
                <a:spcPct val="79000"/>
              </a:lnSpc>
              <a:tabLst>
                <a:tab algn="l" pos="0"/>
                <a:tab algn="l" pos="41436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9398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DejaVu Sans"/>
                <a:ea typeface="DejaVu Sans"/>
              </a:rPr>
              <a:t>Para más información: http://www.iered.org/proyectos/redcts</a:t>
            </a: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656320" y="4086360"/>
            <a:ext cx="1260360" cy="1260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97240" y="4086360"/>
            <a:ext cx="1717560" cy="1260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494000" y="4068720"/>
            <a:ext cx="1158840" cy="1297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7559640" y="4176720"/>
            <a:ext cx="110808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628200"/>
            <a:ext cx="907272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DejaVu Sans"/>
              </a:rPr>
              <a:t>Copyright © 2007</a:t>
            </a:r>
            <a:endParaRPr b="0" lang="en-US" sz="21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DejaVu Sans"/>
              </a:rPr>
              <a:t>Se permite copiar, distribuir, presentar públicamente y hacer obras derivadas de los materiales elaborados por los autores, siempre y cuando se cite al autor original y las obras derivadas posean una licencia idéntica a esta, según lo establece la Licencia Pública Creative Commons Reconocimiento - Compartir Igual. La versión completa de esta licencia se encuentra en la dirección web: http://creativecommons.org/licenses/by-sa/2.5/</a:t>
            </a:r>
            <a:endParaRPr b="0" lang="en-US" sz="21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DejaVu Sans"/>
              </a:rPr>
              <a:t>Muchas de las imágenes utilizadas en este trabajo fueron descargadas de Internet, y a menos que se indique lo contrario en la página web correspondiente, todos los derechos están reservados. Su uso en este trabajo es ilustrativo y sólo con fines educativos, tal y como lo permite el artículo 32 de la Ley 23 de 1982 de Colombia http://www.derautor.gov.co/htm/legal/legislacion/leyes.htm y el artículo 15 de la Convención de Roma http://www.ompi.int/treaties/es/ip/rome/trtdocs_wo024.html</a:t>
            </a:r>
            <a:endParaRPr b="0" lang="en-US" sz="21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02920" y="628200"/>
            <a:ext cx="9109080" cy="62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Alba Ausechas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-p6050037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Alba Ausecha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DejaVu Sans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p6050044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Alba Ausecha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DejaVu Sans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p6050039.jpg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Alba Ausecha imágenes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DejaVu Sans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p6050059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Alba Ausecha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DejaVu Sans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p6050102.jpg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Alba Ausecha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DejaVu Sans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p6050061.jpg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Gloria Muñoz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DejaVu Sans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seminario1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Cesar Cárdenas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DejaVu Sans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legio_sucio1 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92000" y="466560"/>
            <a:ext cx="8496360" cy="70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 Cesar Cárdenas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54021375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Claudia Castro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aneca1.jpg.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 Cesar Cárdenas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ampaña1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Gloria Muñoz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relleno1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Gloria Muñoz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gradas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Gloria Muñoz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patio2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Gloria Muñoz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baño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Claudia Castro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Feris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36720" y="826920"/>
            <a:ext cx="691200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Claudia Castro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aneca2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Claudia Castro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botellas 2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Claudia Castro</a:t>
            </a:r>
            <a:r>
              <a:rPr b="0" lang="en-GB" sz="1800" spc="-1" strike="noStrike">
                <a:solidFill>
                  <a:srgbClr val="ffffff"/>
                </a:solidFill>
                <a:latin typeface="DejaVu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imágen040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Claudia Castro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imagen044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Claudia Castro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16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Alba Ausecha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p6050062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Claudia Castro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barrio1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16000" y="684360"/>
            <a:ext cx="10080720" cy="67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Claudia Castro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barrio2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Claudia Castro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alle1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Claudia Castro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alle2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Claudia Castro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lase1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Claudia Castro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alle3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Claudia Castro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vecinos1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Claudia Castro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iglesia1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Claudia Castro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imágen051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47640" y="539640"/>
            <a:ext cx="84963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" name=""/>
          <p:cNvSpPr/>
          <p:nvPr/>
        </p:nvSpPr>
        <p:spPr>
          <a:xfrm>
            <a:off x="576360" y="611280"/>
            <a:ext cx="7704000" cy="64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Alba Ausecha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paisaje1.jpg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Alba Ausecha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paisaje2.jpg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Alba Ausecha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paisaje3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Alba Ausecha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paisaje4.jpg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Alba Ausecha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paisaje5.jpg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Alba Ausecha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paisaje6.jpg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Alba Ausecha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paisaje7.jpg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Copyright © Foto tomada por Alba Ausecha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DejaVu Sans"/>
              </a:rPr>
              <a:t>paisaje8.jpg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MANEJO Y TRANSFORMACIÓN DE RESIDUOS SÓLIDOS  COLEGIO NUESTRA SE</dc:title>
</cp:coreProperties>
</file>