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306-E6D7-44F2-A21F-5557320B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431-AC1A-4784-96B4-37EFA0DA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27C-A51C-43A3-A0EB-5AE0F91C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623-E038-4CBE-B8D3-929D9C69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128A-ACEF-4230-B836-E5EFFD62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CF0F-7CAC-4236-89AA-7655FFB8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4B6D-84D6-4FF3-93D9-7319701D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4702-0768-496A-BB37-935A273C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571F-9563-4236-A5B5-C29059BE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0C6C-FD8B-43AA-B6C5-28A3E205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CA89-89E8-465E-861D-319CC3F0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361-208E-45B9-BE87-CF724EC7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3E9D-F6F8-464A-BCE2-F1C63158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7C14-6FC9-41BE-B9EB-0A793D4E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F9DF-7FCB-48D0-B94B-DEA54591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A6C5-042C-4811-A0F6-787BF9A5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C1F5-7FD0-460D-9147-8C91B516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A68-E815-4D60-98DE-F938425D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BB9-BEC2-4C98-95E4-DE082D10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19D-C922-41FB-BF83-2ACEB7D1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D77-642F-45C8-B2C9-EC78DCF8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1E6-BBF9-42F6-BAE3-DF3E7170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A0A-DB03-432B-B0AA-8C32C0E2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51B-A80D-47D5-B98C-E8B8FE89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5F57-6B74-418E-B8FB-B420E18FD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BF2D-0A1F-46FB-BE78-EA29AD77E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EL VUELO DE LOS GANSOS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LL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. Cinco características que  te llamen la atención  de la anterior present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Sería lo mismo  en los gansos volar juntos que sol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Si los gansos no tuvieran esas actitudes podrían tener ese estilo de vid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Qué cualidades crees necesitamos los humanos para  trabajo en equi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ENA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r en plenaria  conclu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 abre espacio para la discusión y aclaración de concep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car en un lugar visible  del aula de clase  las conclus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7:50Z</dcterms:created>
  <dc:creator>Usuario</dc:creator>
  <dc:description/>
  <dc:language>en-US</dc:language>
  <cp:lastModifiedBy>Chicos</cp:lastModifiedBy>
  <dcterms:modified xsi:type="dcterms:W3CDTF">2007-06-01T09:40:58Z</dcterms:modified>
  <cp:revision>6</cp:revision>
  <dc:subject/>
  <dc:title>EL VUELO DE LOS GANZOS </dc:title>
</cp:coreProperties>
</file>