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539288" cy="7343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FFD-2994-41D9-9954-E1FE3690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858708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360" y="4246200"/>
            <a:ext cx="858708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0D6-6DF0-42D9-A3D4-0783A688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764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7360" y="424620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7640" y="424620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459-12A9-49D8-B69F-83071CA6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0760" y="171468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160" y="171468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360" y="424620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0760" y="424620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160" y="4246200"/>
            <a:ext cx="27648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045-0789-488A-9F89-495A9756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982-D47C-4CA8-B860-2C3B18A1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572-E5F5-4317-B3B4-616D6D9D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419040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7640" y="1714680"/>
            <a:ext cx="419040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C9E-E777-4992-B3E6-D311E281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4FE-BFD6-4C5B-9E40-62C6A99E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7360" y="293760"/>
            <a:ext cx="858708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9D7-009C-4564-A911-3B379F36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7640" y="1714680"/>
            <a:ext cx="419040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7360" y="424620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5B7-1F38-4D8F-A5AD-BCC80C38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419040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764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7640" y="424620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EDB-5CE3-4941-AD20-FABA9A70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7640" y="1714680"/>
            <a:ext cx="419040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360" y="4246200"/>
            <a:ext cx="8587080" cy="2311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E4A-AEAF-4611-AE9E-94F874D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8912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2415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2415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2415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7360" y="6689520"/>
            <a:ext cx="222588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6689520"/>
            <a:ext cx="302256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7120" y="6689520"/>
            <a:ext cx="2227320" cy="509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7356ADA-2061-4B5D-AE1D-C9F8F217A2A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63640" y="2824200"/>
            <a:ext cx="76629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IDUOS SOL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25280" y="360360"/>
            <a:ext cx="3961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2360" y="158436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DEPOSITAMOS EN EL CONTENEDOR AZUL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6720" y="2160720"/>
            <a:ext cx="3529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SOLO PAPEL Y CART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3640" y="2664000"/>
            <a:ext cx="4176720" cy="36036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CONSEGUIMOS CON EST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9640" y="3889440"/>
            <a:ext cx="792144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LA TALA DE ÁRBO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AGU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ENER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EL VOLUMEN DE RESIDUOS Y POR LO TANTO SUS EFECTOS CONTAMIN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78000" y="504720"/>
            <a:ext cx="5905440" cy="4320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COMO PODEMOS HACER BUEN USO DE ELL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6720" y="1368360"/>
            <a:ext cx="655164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DEPOSITANDO SOLO PAP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NO LO ARRUGUES NI LO DOBLES YA QUE ASI OCUPARA MENOS ESPA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INTENTA QUITAR CLIPS Y GRAP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NO TIRES PAPEL ADHESIVO. HIGIÉNICO, MANCHADO CON GRASA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86000" y="4897440"/>
            <a:ext cx="64087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Para fabricar papel a partir de celulosa virgen se requiere madera, agua y energía, para obtener la misma cantidad con papel recuperado se  necesita 100 veces menos cantidad de agua una tercera parte de energía  y no se consume madera de los bosqu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30720" y="4176720"/>
            <a:ext cx="2449440" cy="5047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¿SABIAS QU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14720" y="0"/>
            <a:ext cx="324000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VIDRIO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" y="108108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DEPOSITAMOS EN EL CONTENEDOR VERDE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" y="2232000"/>
            <a:ext cx="4176360" cy="36036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CONSEGUIMOS CON EST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280" y="1728720"/>
            <a:ext cx="5688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SOLO LOS BOTES Y BOTELLAS DE VID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3097080"/>
            <a:ext cx="8209080" cy="28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MINIMIZAR EL CONSUMO DE RECURSOS NATUR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EVITAR IMPACTOS PROCEDENTES DE LA EXTRACCION DE SILI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AG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ENER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EL VOLUMEN DE RESIDUOS Y POR LO TANTO SUS EFECTOS CONTAMIN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78000" y="504720"/>
            <a:ext cx="5905440" cy="4320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COMO PODEMOS HACER BUEN USO DE ELL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30720" y="3529080"/>
            <a:ext cx="2449440" cy="50472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¿SABIAS QU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8360" y="1368360"/>
            <a:ext cx="7632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DEPOSITA SOLO BOTELLAS, NO ES PARA CRISTALES DE VENTANAS, BOMBILLAS, VAJILLAS … PORQUE TIENEN UNA COMPOSICION DIFEREN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QUITA TAPAS Y TAPONES ANTES DE DEPOSITARLOS. SI ES POSIBLE LAVALOS ANTES DE RECICLARL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14360" y="4363920"/>
            <a:ext cx="68407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por cada 300 botellas de vidrio que recicl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ahorramos 1 toneladas de materia prima que no se tiene que extraer de las canter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consumimos el 50% de agua men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mos un 20% la contaminación de la atmósfer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disminuimos 1 tonelada de basuras en verteder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6360" y="115236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DEPOSITAMOS EN EL CONTENEDOR AMARILLO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6360" y="2448000"/>
            <a:ext cx="417672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QUE CONSEGUIMOS CON EST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38000" y="289080"/>
            <a:ext cx="4248360" cy="86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PLASTICO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6360" y="1728720"/>
            <a:ext cx="828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ENVASES DE PLASTICO, LATAS, ENVOLTORIOS, PAPEL ALUMINIO, BOLSAS … TODO TIPO DE ENVASES PLASTICOS Y ENVOLTORI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6720" y="3529080"/>
            <a:ext cx="80643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MINIMIZAR EL CONSUMO DE RECURSOS NATUR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AGU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CONSUMO DE ENERG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IR EL VOLUMEN DE RESIDUOS Y POR LO TANTO SUS  EFECTOS CONTAMIN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8000" y="504720"/>
            <a:ext cx="590544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COMO PODEMOS HACER BUEN USO DE ELL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5080" y="3745080"/>
            <a:ext cx="2449440" cy="504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s-CO" sz="1900" spc="-1" strike="noStrike">
                <a:solidFill>
                  <a:srgbClr val="000000"/>
                </a:solidFill>
                <a:latin typeface="Arial"/>
              </a:rPr>
              <a:t>¿SABIAS QU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82720" y="1368360"/>
            <a:ext cx="777564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REDUCE EL VOLUMEN DE LOS ENVASES QUE LO PERMITA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LOS ENVASES QUE NO SE PUEDAN PLEGAR QUITARLES EL TAP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ES BUENO QUE ESTEN LIMPIOS YA QUE LAS PERSONAS QUE LOS MANIPULAN SE LO AGRADECERIA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10000" y="4681440"/>
            <a:ext cx="49687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CERCA DEL 60% DE LA BASURA LO COMPONEN ENVASES Y  ENVOLTURAS  QUE ADEMAS SE LLEVAN ENTRE EL 10 Y 20% DEL DINERO DE NUESTRA COMPR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98720" y="720720"/>
            <a:ext cx="3024000" cy="2303640"/>
          </a:xfrm>
          <a:prstGeom prst="wedgeRoundRectCallout">
            <a:avLst>
              <a:gd name="adj1" fmla="val -5800"/>
              <a:gd name="adj2" fmla="val 699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SI VES LA IMPORTANCIA DE MANEJAR LOS RESIDUOS SÓLIDOS  EN CASA Y EN TODO LUG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2360" y="0"/>
            <a:ext cx="4338360" cy="3024360"/>
          </a:xfrm>
          <a:prstGeom prst="wedgeEllipseCallout">
            <a:avLst>
              <a:gd name="adj1" fmla="val -21351"/>
              <a:gd name="adj2" fmla="val 654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SI ES MUY IMPORTANTE POR ESOS TODOS EN CASA CLASIFIQUEMOS TODOS LOS RESIDUOS PARA TENER UN AMBIENTE SALUDAB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57640" y="3745080"/>
            <a:ext cx="2873520" cy="3101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33280" y="3816360"/>
            <a:ext cx="424980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600" spc="-1" strike="noStrike">
                <a:solidFill>
                  <a:srgbClr val="ff6600"/>
                </a:solidFill>
                <a:latin typeface="Arial"/>
              </a:rPr>
              <a:t>ACTIVIDA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IEZA  A SEPARAR LOS RESIDUOS SÓLIDOS EN TU AULA DE CLA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CA UNA CAJA DE CARTÓN PINTADA DE  AZUL PARA RECICLAR PAP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CA UNA CAJA DE CARTÓN PINTADA DE VERDE PARA REUTILIZAR EL VIDR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OS RESIDUOS SÓLIDOS SE UTILIZARÁN PARA ELABORAR CUADROS Y EXPONERLOS EN LA FERIA DE LA CREATIV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14480" y="1127160"/>
            <a:ext cx="3079800" cy="2082600"/>
          </a:xfrm>
          <a:prstGeom prst="wedgeRoundRectCallout">
            <a:avLst>
              <a:gd name="adj1" fmla="val -40476"/>
              <a:gd name="adj2" fmla="val 721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Abuela hoy aprendímos algo muy importante para la conservación de nuestro ambient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23000" y="1127160"/>
            <a:ext cx="2630520" cy="1465200"/>
          </a:xfrm>
          <a:prstGeom prst="wedgeEllipseCallout">
            <a:avLst>
              <a:gd name="adj1" fmla="val -25250"/>
              <a:gd name="adj2" fmla="val 102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OH que bien cuéntame lo que aprendis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3816360"/>
            <a:ext cx="2873160" cy="310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6720" y="3889440"/>
            <a:ext cx="38941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2000" y="996480"/>
            <a:ext cx="498636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sp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RESIDUOS SÓL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n la  fracción de los materiales de desecho que se producen tras la fabricación, transformación o utilización de bienes de consumo, que no se presentan en estado líquido o gaseo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46360" y="431640"/>
            <a:ext cx="4432320" cy="2546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Entonces podemos hablar de las </a:t>
            </a: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3R</a:t>
            </a: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. Que son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500" spc="-1" strike="noStrike">
                <a:solidFill>
                  <a:srgbClr val="000000"/>
                </a:solidFill>
                <a:latin typeface="Arial"/>
              </a:rPr>
              <a:t>REDU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500" spc="-1" strike="noStrike">
                <a:solidFill>
                  <a:srgbClr val="000000"/>
                </a:solidFill>
                <a:latin typeface="Arial"/>
              </a:rPr>
              <a:t>REUTILIZ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500" spc="-1" strike="noStrike">
                <a:solidFill>
                  <a:srgbClr val="000000"/>
                </a:solidFill>
                <a:latin typeface="Arial"/>
              </a:rPr>
              <a:t>RECIC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57280" y="3816360"/>
            <a:ext cx="38941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COMO REDUCIR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Arial"/>
              </a:rPr>
              <a:t>Piensa antes de comprar !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Arial"/>
              </a:rPr>
              <a:t>Adquiere aquellos productos que son necesarios para tu diario vivir  y no aquellos productos que se van a quedar sin utilizar ya que esos generan basura. esto también ayuda para que la economía de tu familia mejo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665280"/>
            <a:ext cx="858672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COMO REUTILIZAR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2361960"/>
            <a:ext cx="8586720" cy="3036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 algn="ctr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ompra lo que puedas volver a utilizar. Evita envases desechables, son mejores los retornables. Arregla, repara y vuelve a utilizar. Si algo no te sirve, regálalo!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7360" y="293760"/>
            <a:ext cx="8587080" cy="122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4600" spc="-1" strike="noStrike">
                <a:solidFill>
                  <a:srgbClr val="000000"/>
                </a:solidFill>
                <a:latin typeface="Arial"/>
              </a:rPr>
              <a:t>COMO RECICLAR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7360" y="1714680"/>
            <a:ext cx="8587080" cy="4846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ra artículos hechos con materiales reciclados. Utiliza empaques de cartón y envases de vidrio, recuerda que puede reciclars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66720" y="431640"/>
            <a:ext cx="4608720" cy="2043360"/>
          </a:xfrm>
          <a:prstGeom prst="wedgeEllipseCallout">
            <a:avLst>
              <a:gd name="adj1" fmla="val 38013"/>
              <a:gd name="adj2" fmla="val 49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¿Pero como podemos aplicar esto en casa o cualquier otro lugar?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720" y="2736720"/>
            <a:ext cx="2448000" cy="1584360"/>
          </a:xfrm>
          <a:prstGeom prst="wedgeRoundRectCallout">
            <a:avLst>
              <a:gd name="adj1" fmla="val -50194"/>
              <a:gd name="adj2" fmla="val 733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1900" spc="-1" strike="noStrike">
                <a:solidFill>
                  <a:srgbClr val="000000"/>
                </a:solidFill>
                <a:latin typeface="Arial"/>
              </a:rPr>
              <a:t>Esa es una muy buena pregunta y para eso mira el siguiente esquema de recicla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50000" y="1224000"/>
            <a:ext cx="2873160" cy="310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33280" y="4897440"/>
            <a:ext cx="3462480" cy="21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22360" y="720720"/>
            <a:ext cx="8586720" cy="5896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642960" indent="0" algn="ctr">
              <a:spcBef>
                <a:spcPts val="5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PARA PODER RECICLAR UTILIZAMOS UNA CANECA QUE PUEDE SER DE COLORES PARA IDENTIFICAR LO QUE SE VA A DEPOSIT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5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EL PAPEL</a:t>
            </a:r>
            <a:br>
              <a:rPr sz="3000"/>
            </a:b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(Azu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EL VIDRIO</a:t>
            </a:r>
            <a:br>
              <a:rPr sz="3000"/>
            </a:b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  (Ver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EL PLASTICO O EMP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2960" indent="0" algn="ctr">
              <a:spcBef>
                <a:spcPts val="751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O" sz="3000" spc="-1" strike="noStrike">
                <a:solidFill>
                  <a:srgbClr val="000000"/>
                </a:solidFill>
                <a:latin typeface="Arial"/>
              </a:rPr>
              <a:t>(Amarill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4:56:57Z</dcterms:created>
  <dc:creator>USUARIO</dc:creator>
  <dc:description/>
  <dc:language>en-US</dc:language>
  <cp:lastModifiedBy>Chicos</cp:lastModifiedBy>
  <dcterms:modified xsi:type="dcterms:W3CDTF">2007-06-01T11:03:56Z</dcterms:modified>
  <cp:revision>29</cp:revision>
  <dc:subject/>
  <dc:title>Diapositiva 1</dc:title>
</cp:coreProperties>
</file>