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AAE-68D9-4057-BB3A-FCF62980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0F0-0F91-4E21-9346-82603203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990-9070-490D-A976-A7D47A55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6E9-35B9-42E8-B3BD-22119979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26D3-72F8-43AE-A412-30062709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EEBF-078A-4B34-9AD7-BD40B98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B2F-EBF6-48FA-8BD2-38BC3A8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3F9-22FD-4A4D-976D-115E28A8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7517-8985-45D0-99F3-0A47925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2B42-D2D0-4BCC-87E3-409F7231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EB7E-7AEC-4642-B0D5-3B11C4F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4AD-169B-4459-A669-F9B297B9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0F6-CDBB-4F59-BE02-F627B6F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1C5E-8E2B-4B0A-A667-9E1774F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BD69-B2C0-4B18-9160-B089CA1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627-DDB1-40DC-967F-94A055B2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B674-4D3A-4CB6-81F2-70AA8574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F84-A700-48E2-87DB-3FDF553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B6B-401E-41D0-A246-FB93EE44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C76-A76A-4C0B-9ADA-7E985AF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737-366A-4662-8DF6-001B27BD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662-F1D5-4A31-9B37-0F6D0613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20F-474C-4846-856F-5E6749C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652-B064-4EFE-BBC2-AB05EBF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BA9C-1C65-4236-9560-63C40772E6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577-4B7B-498B-88EE-706CCC942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258920" y="549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VISTAZO A TU HO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184720" cy="309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765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CÓMO MANEJAS LOS RESIDUOS SÓLID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57340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TIENEN QUE OBLIGARTE A DEPOSITARLOS EN LA CANEC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848720" cy="4535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16000" y="522936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… LOS SEPARAS EN LA FUENTE PARA BENEFICIAR A OTRO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EÑA UN MUNDO MEJ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RIBE UN CUENTO, UNA HISTORIETA, O UNA DRAMATIZACIÓN  EN PEQUEÑOS GRUPOS SOB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UNA MEJOR ACTITUD HACIA LOS RESIDUOS SÓLIDOS PUEDE MEJORAR EL 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3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4:24:29Z</dcterms:created>
  <dc:creator>Chicos</dc:creator>
  <dc:description/>
  <dc:language>en-US</dc:language>
  <cp:lastModifiedBy>Chicos</cp:lastModifiedBy>
  <dcterms:modified xsi:type="dcterms:W3CDTF">2007-05-31T07:29:05Z</dcterms:modified>
  <cp:revision>2</cp:revision>
  <dc:subject/>
  <dc:title>Diapositiva 1</dc:title>
</cp:coreProperties>
</file>