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9058320"/>
            <a:ext cx="360" cy="19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840A-80B7-4F22-9A46-81A9D993F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0AF3-A4AA-46AE-BA2F-5A5BD77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43CA-2BDD-47E5-99A8-F354641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F798-ECA1-4842-AD7E-04CD77CC1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164E-CF67-4846-B4C8-B1E8B839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2835-0836-488F-983E-EB77E1C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6B05-FE5B-4543-8CEA-29B32379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F00F-F2B1-48E8-8D36-7DA89D26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5838-ECC5-49B4-BC9A-20FC0DF3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7BE9-ED0C-4F70-87A8-3CD6363B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EEAB-7051-4477-A42E-35265E3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BECF-19FF-4104-944F-8FBEAAAA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C04C5-8703-49A4-97EC-646A635BB7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95360"/>
            <a:ext cx="82296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CONVERSION AL RELLENO SANIT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OBJETIVO: </a:t>
            </a:r>
            <a:r>
              <a:rPr b="0" lang="en-GB" sz="3600" spc="-1" strike="noStrike">
                <a:solidFill>
                  <a:srgbClr val="ffc000"/>
                </a:solidFill>
                <a:latin typeface="Calibri"/>
              </a:rPr>
              <a:t>El municipio de Popayán, ha padecido de un mal manejo de los residuos sólidos, en su etapa de disposición final, durante muchos años. La actual administración desde su inicio se comprometió a convertir el actual sistema de enterramiento al sistema sanitari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6512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RESEÑA HISTO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11120" y="1260360"/>
            <a:ext cx="82296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c000"/>
                </a:solidFill>
                <a:latin typeface="Calibri"/>
              </a:rPr>
              <a:t>Hasta el año de 1997, la disposición final de Popayán, era manejada como un botadero a cielo abierto. En el mes de diciembre de 1997, la comisión de regulación de agua potable y saneamiento básico mediante resolución No. 30 de 1997, reclasifica el tipo de disposición final como “enterramiento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c000"/>
                </a:solidFill>
                <a:latin typeface="Calibri"/>
              </a:rPr>
              <a:t>El 13 de octubre del año 2000, se remite ala C.R.C  el estudio contratado con el ingeniero sanitario Héctor Collazos Peñalosa, para el saneamiento del actual sitio de disposición final</a:t>
            </a: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694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Calibri"/>
              </a:rPr>
              <a:t>El 27 de agosto del 2001, la C.R.C expide la resolución No. 0633 del 2001, por la cual se establece un plan de manejo ambiental, y se definen todas las actividades que debe la Alcaldía de Popayán ejecutar para convertir el sistema de disposición final al relleno sanitari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37332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CTIVIDADES REALIZADAS POR LA ALCALDIA PARA MEJORAR EL RELLENO SANITARIO EL OJ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Elaboración de la línea base: En ejec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Estudios geofísicos para el relleno sanitario: En ejec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Recuperación de la quebrada el ojito: En etapa contract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2f2f2"/>
                </a:solidFill>
                <a:latin typeface="Calibri"/>
              </a:rPr>
              <a:t>Mejoramiento sistema pasaje relleno sanitario. En etapa contract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2f2f2"/>
                </a:solidFill>
                <a:latin typeface="Calibri"/>
              </a:rPr>
              <a:t>ACTIVIDADES EN ESTUDIO POR IMPLEMENT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SANTIA: Diseño de implementación de un laboratorio de lixiviados básico para el relleno sanitario “ el oji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SANTIA: Evaluación de la eficiencia de la laguna de lixivi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valuación del tratamiento de lixiviados mediante filtros anaerobios con medio de soporte en guad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seño y construcción de lechos de secado de lodos para tratamiento de lixivi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43440"/>
            <a:ext cx="82296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aneamiento Del Botadero De Basura De La Ciudad De Popayán: Relleno Sanitario " El Ojito 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El botadero de basura de la ciudad de Popayán está clasificado como enterramiento; por lo cual se vio la urgente necesidad de mejorarlo, no solo por proteger el medio ambiente sino por la salud de la comunidad y el paisaje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El objetivo principal del proyecto es el saneamiento del actual botadero de basura en la ciudad de Popayán para convertirlo en un verdadero RELLENO SANITARIO. 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la vida útil del Proyecto es de aproximadamente 12.6 años con posibilidad de ampliación a 17 años 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Las actividades a desarrollar en forma general son: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Calibri"/>
              </a:rPr>
              <a:t>Manejo de lixiviados, Manejo de gases, Manejo de los recicladores, Sistemas de medición, Cober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5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5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5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7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5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CURSOS INVERTIDOS O COMPROMET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14680"/>
            <a:ext cx="82296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el año 2000 hasta el 31 de mayo del 2003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$ 832.117.50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ECURSOS POR INVERTI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e junio a diciembre del 2003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$ 455.354.3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071720"/>
            <a:ext cx="8229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Calibri"/>
              </a:rPr>
              <a:t>DATO IMPORTANTE: EN EL MES DE JULIO DE ESTE AÑO SE SOLICITARA A AL C.R.C LA RECLASIFICACIO DEL SISTEMA DE DISPOCISION FINAL DEL RELLENO SANI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512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Ecoparque en relleno sanit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76120" y="4172040"/>
            <a:ext cx="822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e1c11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Precisamente desde el año 2004 el municipio de Popayán adelanta un interesante proyecto ambiental que se orienta a la creación del Ecoparque El Ojito, en el relleno sanitario. Se están construyendo senderos ecológicos, que reciben de manera frecuente visitas de estudiantes de colegios y universidad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47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297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7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97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7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47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7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47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297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7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97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7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47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7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NUSEFA</cp:lastModifiedBy>
  <cp:revision>0</cp:revision>
  <dc:subject/>
  <dc:title>PROYECTO: CONVERSION DEL RELLENO SANITARIO</dc:title>
</cp:coreProperties>
</file>