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9058320"/>
            <a:ext cx="360" cy="195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A16-5565-4306-AC03-B604743C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4A8-47DB-4FEB-A8DB-385A843D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3C5-DAB9-4023-8998-243C3EF6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608-CC1E-4DC4-A7F0-9FD7FEFC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94A-A8E1-41D9-AAB7-4A259B41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D20-5E07-4BFB-9B26-E2FA052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43E-C473-454B-A6CD-71A5036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650-C22A-4559-803B-8B701BEF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1D4-06CC-4F85-BC9B-A54440D1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35D-91B0-43B1-9AB8-86E3105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913-1B91-456B-82A8-6CDEC9C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597-ACA9-4754-8A37-15E6830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740AE-1E7A-4B1C-AEB9-72F060F511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2421000"/>
            <a:ext cx="57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fdf828"/>
                </a:solidFill>
                <a:latin typeface="Tempus Sans ITC"/>
              </a:rPr>
              <a:t>AHORA … UNA MIRADA  A TU BAR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692280"/>
            <a:ext cx="3848040" cy="320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932360" y="3699000"/>
            <a:ext cx="3703680" cy="2778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500720" y="9810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empus Sans ITC"/>
              </a:rPr>
              <a:t>Conoces tu bar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060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Tempus Sans ITC"/>
              </a:rPr>
              <a:t>Has mirado con atención el medio que te ro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180000">
            <a:off x="1185480" y="472572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df828"/>
                </a:solidFill>
                <a:latin typeface="Comic Sans MS"/>
              </a:rPr>
              <a:t>Te gusta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403280" y="1341360"/>
            <a:ext cx="6048360" cy="4052880"/>
            <a:chOff x="1403280" y="1341360"/>
            <a:chExt cx="6048360" cy="4052880"/>
          </a:xfrm>
        </p:grpSpPr>
        <p:pic>
          <p:nvPicPr>
            <p:cNvPr id="52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1403280" y="1341360"/>
              <a:ext cx="6048360" cy="4051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1403280" y="1341360"/>
              <a:ext cx="604836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971640" y="476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df828"/>
                </a:solidFill>
                <a:latin typeface="Tempus Sans ITC"/>
              </a:rPr>
              <a:t>¿Cómo están las  cal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5589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9933"/>
                </a:solidFill>
                <a:latin typeface="Tempus Sans ITC"/>
              </a:rPr>
              <a:t>¿ Descuidadas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90320" y="2078280"/>
            <a:ext cx="5818680" cy="4544640"/>
            <a:chOff x="490320" y="2078280"/>
            <a:chExt cx="5818680" cy="4544640"/>
          </a:xfrm>
        </p:grpSpPr>
        <p:pic>
          <p:nvPicPr>
            <p:cNvPr id="57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84360" y="2349360"/>
              <a:ext cx="5430600" cy="399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 rot="21240000">
              <a:off x="684360" y="2351160"/>
              <a:ext cx="543060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020000">
            <a:off x="2428920" y="1020240"/>
            <a:ext cx="683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empus Sans ITC"/>
              </a:rPr>
              <a:t>Puede que algunas estén </a:t>
            </a:r>
            <a:r>
              <a:rPr b="1" lang="en-GB" sz="4000" spc="-1" strike="noStrike" u="sng">
                <a:solidFill>
                  <a:srgbClr val="ffff00"/>
                </a:solidFill>
                <a:uFillTx/>
                <a:latin typeface="Tempus Sans ITC"/>
              </a:rPr>
              <a:t>suci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0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21420000">
            <a:off x="393840" y="750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Tempus Sans ITC"/>
              </a:rPr>
              <a:t>¿Qué puedes hacer para cambiar esta situ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7440" y="2274840"/>
            <a:ext cx="597708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9228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empus Sans ITC"/>
              </a:rPr>
              <a:t>Realiza una visita por tu barrio                   acompañado de un docente  y averigua su situación ambiental, toma registros de video o fotográficos y realiza un informe                       en pequeñ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08360" y="2637000"/>
            <a:ext cx="504036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0000" y="2900520"/>
            <a:ext cx="4176720" cy="34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2360" y="2160720"/>
            <a:ext cx="3888000" cy="31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041480" y="24300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empus Sans ITC"/>
              </a:rPr>
              <a:t>Realiza entrevistas a las personas que habitan tu barrio y pregúntales qué opinan de la situación ambiental y si están dispuestos a colabor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37372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empus Sans ITC"/>
              </a:rPr>
              <a:t>Investiga cuáles son las Instituciones más importantes de tu barrio y sus fun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cos</dc:creator>
  <dc:description/>
  <dc:language>en-US</dc:language>
  <cp:lastModifiedBy>Chicos</cp:lastModifiedBy>
  <cp:revision>0</cp:revision>
  <dc:subject/>
  <dc:title>Diapositiva 1</dc:title>
</cp:coreProperties>
</file>