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652240"/>
            <a:ext cx="360" cy="186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B9B-F04A-4CBA-9E10-83882EFE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9E3-8F36-4C44-A075-B47F0E2F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D6B-B3E5-4AC7-94D1-48B8C86B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094-A113-44BE-8FE1-21426609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471-7B4B-4337-B19C-BFC83F4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663-8987-4B48-A058-607FFA51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D51-E22E-4784-9F2D-418AD0B2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84C-C120-4A87-B2A1-A7373C61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D41-7782-42D9-8C54-5F218C4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9CD-404B-4E13-8AED-64C9052A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9DB-D3B0-43DA-BF26-6F314303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7C1-79E5-4150-A49A-4778663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1B43A-7E2D-48E2-B343-AEBE1B9364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01312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empus Sans ITC"/>
              </a:rPr>
              <a:t>¿CONOCES LOS RESIDUOS SÓLIDOS QUE PRODUCE TU COLEG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7280" y="26028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Tempus Sans ITC"/>
              </a:rPr>
              <a:t>Si los clasificas encontrará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19640" y="1440000"/>
            <a:ext cx="2916000" cy="2282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3959280"/>
            <a:ext cx="3240360" cy="2441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3959280"/>
            <a:ext cx="269712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21240000">
            <a:off x="255600" y="3573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empus Sans ITC"/>
              </a:rPr>
              <a:t>Y otro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4537080" cy="496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2011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70720" y="0"/>
            <a:ext cx="1673280" cy="206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458120" y="4802040"/>
            <a:ext cx="1685880" cy="2055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4849920"/>
            <a:ext cx="1636560" cy="200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95640" y="900000"/>
            <a:ext cx="496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empus Sans ITC"/>
              </a:rPr>
              <a:t>¿Qué depositarías en cada una  de las siguientes cane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1403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empus Sans ITC"/>
              </a:rPr>
              <a:t>Consulta la presentación sobre residuos sól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981000"/>
            <a:ext cx="5745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1125360"/>
            <a:ext cx="647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877000"/>
            <a:ext cx="647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5950080"/>
            <a:ext cx="71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32000" y="2492280"/>
            <a:ext cx="669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Tempus Sans ITC"/>
              </a:rPr>
              <a:t>¿CONOCES LA CANTIDAD DE RESIDUOS SÓLIDOS QUE PRODUCE EL COLEG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0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112536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ff00"/>
                </a:solidFill>
                <a:latin typeface="Tempus Sans ITC"/>
              </a:rPr>
              <a:t>En una semana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068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Tempus Sans ITC"/>
              </a:rPr>
              <a:t>¡ En un m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373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Tempus Sans ITC"/>
              </a:rPr>
              <a:t>¡¡ En un año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602160" cy="216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464000" cy="36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1484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58972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ff00"/>
                </a:solidFill>
                <a:latin typeface="Tempus Sans ITC"/>
              </a:rPr>
              <a:t>REDUC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60720" y="2511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empus Sans ITC"/>
              </a:rPr>
              <a:t>REUTILI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573408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33"/>
                </a:solidFill>
                <a:latin typeface="Tempus Sans ITC"/>
              </a:rPr>
              <a:t>RECIC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309528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48360" y="3357720"/>
            <a:ext cx="331128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0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30d2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48360" y="4221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197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ff00"/>
                </a:solidFill>
                <a:latin typeface="Tempus Sans ITC"/>
              </a:rPr>
              <a:t>Son una buena opció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2637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9933"/>
                </a:solidFill>
                <a:latin typeface="Tempus Sans ITC"/>
              </a:rPr>
              <a:t>¿Cómo podríamos hacer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407196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empus Sans ITC"/>
              </a:rPr>
              <a:t>Elabora en pequeños grupos un plan para reducir, reutilizar  y reciclar los residuos sólidos del cole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0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