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554-B507-496C-973E-2D47E488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619-6330-4AE0-B9CF-B3E510F6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0B7-CD2C-426D-8B3C-219C5F3F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63C-6CAE-4A85-855D-E4C90197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0E5-7E74-4E6F-82BE-923011E1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EEE-EBEE-4CF2-AB4E-2E939732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0EE-9547-45BC-91FD-EF716499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840-2B55-4607-B921-8653B1D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A71-395D-44B9-8ACA-42D3F57C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B34-CDD7-4CEA-9C82-2801B18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99F-0362-439A-8C12-BC61650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83D-D58E-4E0F-A3AF-0A7C6136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533186-BCF6-4AAF-BDC3-B1AA59B8D6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227664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empus Sans ITC"/>
              </a:rPr>
              <a:t>AHORA OBSERVA TU COLEGIO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39280" y="6381720"/>
            <a:ext cx="504720" cy="476280"/>
          </a:xfrm>
          <a:prstGeom prst="rect">
            <a:avLst/>
          </a:prstGeom>
          <a:solidFill>
            <a:srgbClr val="006811"/>
          </a:solidFill>
          <a:ln w="9360">
            <a:solidFill>
              <a:srgbClr val="0068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0920" y="692280"/>
            <a:ext cx="4321080" cy="3528720"/>
            <a:chOff x="250920" y="692280"/>
            <a:chExt cx="4321080" cy="3528720"/>
          </a:xfrm>
        </p:grpSpPr>
        <p:pic>
          <p:nvPicPr>
            <p:cNvPr id="45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250920" y="692280"/>
              <a:ext cx="4321080" cy="3528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250920" y="692280"/>
              <a:ext cx="432108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788000" y="2563920"/>
            <a:ext cx="4176720" cy="35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95280" y="4941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empus Sans ITC"/>
              </a:rPr>
              <a:t>¿Te gusta lo que v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94320" y="60012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empus Sans ITC"/>
              </a:rPr>
              <a:t>¿Depositas la basura en la canec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95280" y="2421000"/>
            <a:ext cx="3745080" cy="3816360"/>
            <a:chOff x="395280" y="2421000"/>
            <a:chExt cx="3745080" cy="3816360"/>
          </a:xfrm>
        </p:grpSpPr>
        <p:pic>
          <p:nvPicPr>
            <p:cNvPr id="51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395280" y="2421000"/>
              <a:ext cx="3745080" cy="38163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2" name=""/>
            <p:cNvSpPr/>
            <p:nvPr/>
          </p:nvSpPr>
          <p:spPr>
            <a:xfrm>
              <a:off x="395280" y="2421000"/>
              <a:ext cx="374508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527280" cy="403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9280" y="5493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ff00"/>
                </a:solidFill>
                <a:latin typeface="Tempus Sans ITC"/>
              </a:rPr>
              <a:t>Donde haces tus necesidades, ¿allí co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5013360"/>
            <a:ext cx="417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empus Sans ITC"/>
              </a:rPr>
              <a:t>Y donde com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empus Sans ITC"/>
              </a:rPr>
              <a:t>¿ parece un basure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0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800360" y="2494080"/>
            <a:ext cx="5906880" cy="3985920"/>
            <a:chOff x="1800360" y="2494080"/>
            <a:chExt cx="5906880" cy="398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800360" y="2494080"/>
              <a:ext cx="5906880" cy="3985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>
              <a:off x="1800360" y="2494080"/>
              <a:ext cx="5906880" cy="39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4360" y="4762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9933"/>
                </a:solidFill>
                <a:latin typeface="Tempus Sans ITC"/>
              </a:rPr>
              <a:t>Esfuérzate por depositar las basuras en la caneca correspond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84464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empus Sans ITC"/>
              </a:rPr>
              <a:t>REALIZA UNA MUESTRA FOTOGRÁFICA DE TU COLEGIO ANTES , DURANTE Y DESPUES DEL DESCAN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