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859-F8DB-497C-9EE6-1585132C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1E1-178A-4D71-88A1-6256B8E9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D5E-B6D0-412B-9CAD-6400B3FC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69A-95DB-4B10-8D84-CB0BAA41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E73C-E7F9-480C-8BAC-C9782875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D7A7-85C5-448C-8E2F-360C7DA6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A611-F685-43BA-BB7D-FC863D8D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874B-D9DD-4910-AFE5-F6B74D98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B4F1-7A66-405F-8438-57839F52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14D-C565-4343-AD4F-87148C69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F981-0B7C-4C5F-A8E5-1E08D4AC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66A-39E1-4883-9C92-8907A45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045F-68F3-4524-8D53-6241D38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67FD-7A0D-44E9-A125-21815D73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1EE6-BA50-4C8F-8C03-6EB09001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8180-D25C-4E35-A212-16C4004B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8E88-0151-4412-86C8-FD288270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195-F55B-49F3-85DE-32F6A517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21E-6E94-4F1D-B7AF-CCF638F1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B85-40EE-4F2C-8150-9D57D30A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7B0-CAED-448B-B200-BB4A2496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803-DD42-4F9C-AB12-73AB3F8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C13-B1AE-487A-BBEB-BBC65E15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667-2B3B-4301-8B89-DA93C3A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F48F-D5F7-48E8-8BEE-EEA42FA539C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7783-D691-4085-90B8-B8C516CB0C6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262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UESTRA ARTÍSTICA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568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MUESTRA TUS HABILIDADES Y DESTREZ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POSICIÓN DE CUADR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UNA ESTUPENDA ACTIVIDAD PARA REALIZAR CON LOS ESTUDIANTES ES LA REALIZACIÓN DE CUADROS DONDE SE DESARROLLA LA CREATIVIDAD Y LAS DESTREZAS MANUAL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METODOLOGÍ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EN PEQUEÑOS GRUPOS SE ELABORA UN DISEÑO PREVIO DEL PAISAJE O MOTIVO TENIENDO EN CUENTA LA TEMÁTICA VISTA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SE ELIGE EL MATERIAL QUE PUEDE SER: TELA REUTILIZADA, VIDRIO, PAPEL RECICLADO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O SEMILL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XPOSICIÓN DE CUADR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 ELIGEN LAS PINTURAS A UTILIZAR QUE PUEDEN SER: VINILOS O VITRASETA PARA EL VIDR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A VEZ TERMINADO SE ENMARCA Y SIRVE DE DECORACIÓN Y SENSIBILIZACIÓN PARA LA COMUNIDAD EDUCATIV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2:35:21Z</dcterms:created>
  <dc:creator>Chicos</dc:creator>
  <dc:description/>
  <dc:language>en-US</dc:language>
  <cp:lastModifiedBy>Chicos</cp:lastModifiedBy>
  <dcterms:modified xsi:type="dcterms:W3CDTF">2007-05-29T12:51:47Z</dcterms:modified>
  <cp:revision>2</cp:revision>
  <dc:subject/>
  <dc:title>MUESTRA ARTÍSTICA</dc:title>
</cp:coreProperties>
</file>