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C54-83A2-4181-86EC-37C330A5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196B-C617-49B3-BAAF-38308080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156-9875-427A-B29D-BDFBF830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A0D1-958F-426D-8BAC-166812F8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C310-966B-4D53-9BAE-46D5EA6C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E5E8-040E-4557-AE6E-E61EF85B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E604-E5AD-4392-B135-614E3F28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D0B6-832D-4AD2-8739-CFF99A57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8C21-C2AA-4818-B4C0-878E2D6F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5AFD-A7BE-466A-975E-399F199A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74D6-8BA0-4477-952E-AF0BB80A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F69-F499-4CA3-B66F-CDE168B8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F81A-7FD7-4570-BF6B-6BFE41B1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DA80-2427-40C4-99A5-9980D8A2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4FEC-3ADA-4309-8C00-29FC413E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836E-7CAA-43D2-BCFB-48370DCD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D979-0226-43BF-8545-EE857DE9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E41-7F7B-4261-B410-549633F1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693-9B79-4979-8242-AA85B511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5F1B-6540-4EE5-9DEC-09D7743C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485A-DB19-42CD-8B32-06CAED06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1657-561A-4E67-B5F2-609E76CE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850-B31E-4579-9689-6EDD09C4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993A-C97B-4BD2-9B08-8C8C36BA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5D4B-E9B0-4E38-9F75-8CC73B545C6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3D25-C47F-4741-A268-95C195DD253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FUERZA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A DEL MOVI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PRINCIPIOS  O LEYE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OBSERVAS EL  MOVIMIENTO DE UN CUERPO SE CUMPLEN TRES LEY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Y DE INER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Y DE LA FUER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Y DE ACCION Y REAC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S LEYES FUERON ENUNCIADAS EN 1687 POR EL FÍSICO Y MATEMÁTICO INGLÉS ISAAC NEWTON.  AVERIGUA SU BI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EY DE INERC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940360" y="3068640"/>
            <a:ext cx="1830600" cy="1149480"/>
          </a:xfrm>
          <a:prstGeom prst="rect">
            <a:avLst/>
          </a:prstGeom>
          <a:ln w="0">
            <a:noFill/>
          </a:ln>
        </p:spPr>
      </p:pic>
      <p:sp>
        <p:nvSpPr>
          <p:cNvPr id="159" name="Tree"/>
          <p:cNvSpPr/>
          <p:nvPr/>
        </p:nvSpPr>
        <p:spPr>
          <a:xfrm>
            <a:off x="971640" y="242100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56610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S CUERPOS TIENDEN A PERMANECER EN SU ESTADO DE REPOSO O MOVIMIENTO UNIFORME A NO SER QUE UNA FUERZA EXTERNA  LO MODIFI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85185E-006 L -0.46944 -0.02153 L -0.33559 -0.02153 L -0.46788 -0.02361 L -0.33073 -0.01296 L -0.44843 -0.02153 L -0.31614 -0.01713 L -0.46302 -0.01713 L -0.36128 -0.01505 L -0.46944 -0.02153 E">
                                      <p:cBhvr>
                                        <p:cTn id="9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EY DE LA FUERZ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635280" y="2852640"/>
            <a:ext cx="1830600" cy="1149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651640" y="2708280"/>
            <a:ext cx="2016000" cy="1225440"/>
          </a:xfrm>
          <a:prstGeom prst="leftArrow">
            <a:avLst>
              <a:gd name="adj1" fmla="val 50000"/>
              <a:gd name="adj2" fmla="val 41128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43640" y="306864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72360" y="3141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5640" y="4149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4076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EL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5445000"/>
            <a:ext cx="7993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 FUERZA QUE ACTÚA SOBRE UN CUERPO ES IGUAL AL PRODUCTO DE LA MASA POR LA ACELERACIÓN QUE LE IMPR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= m.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39375 1.85185E-006 E">
                                      <p:cBhvr>
                                        <p:cTn id="1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EY DE ACCIÓN Y REAC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580000" y="2781360"/>
            <a:ext cx="1830600" cy="1149120"/>
          </a:xfrm>
          <a:prstGeom prst="rect">
            <a:avLst/>
          </a:prstGeom>
          <a:ln w="0">
            <a:noFill/>
          </a:ln>
        </p:spPr>
      </p:pic>
      <p:sp>
        <p:nvSpPr>
          <p:cNvPr id="173" name="Tree"/>
          <p:cNvSpPr/>
          <p:nvPr/>
        </p:nvSpPr>
        <p:spPr>
          <a:xfrm>
            <a:off x="2124000" y="227664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2565360"/>
            <a:ext cx="1152360" cy="57636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64000" y="2565360"/>
            <a:ext cx="1008000" cy="50328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53737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EMPRE QUE UN CUERPO EJERCE UNA FUERZA DE ACCIÓN SOBRE OTRO, ESTE REACCIONA CON UNA FUERZA IGUAL Y OPUESTA APLICADA SOBRE EL PRIM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48148E-006 C -0.04895 0.00069 -0.09774 0.00232 -0.14669 0.00232 C -0.28055 0.00232 -0.24635 0.00579 -0.20798 -0.01065 C -0.19999 -0.00995 -0.19166 -0.01111 -0.18385 -0.00856 C -0.18194 -0.00787 -0.1868 -0.00486 -0.18871 -0.00417 C -0.19235 -0.00278 -0.19617 -0.00255 -0.19999 -0.00208 C -0.20538 -0.00116 -0.21076 -0.00069 -0.21614 1.48148E-006 C -0.26423 0.02384 -0.21371 0.01227 -0.1644 0.01088 C -0.18281 -0.00579 -0.20798 0.0125 -0.22742 -0.00417 C -0.22847 -0.00625 -0.22899 -0.00903 -0.23055 -0.01065 C -0.23194 -0.01204 -0.23715 -0.01273 -0.23541 -0.01273 C -0.20954 -0.01273 -0.18385 -0.01134 -0.15798 -0.01065 C -0.1868 -0.02292 -0.21944 -0.02083 -0.24826 -0.00856 C -0.21631 0.00509 -0.18923 0.00116 -0.15312 0.00232 C -0.14097 0.05116 -0.20781 0.02315 -0.22569 0.02361 C -0.21892 0.02315 -0.18506 0.02107 -0.17569 0.01944 C -0.16735 0.01806 -0.16041 0.01088 -0.15156 0.01088 E">
                                      <p:cBhvr>
                                        <p:cTn id="21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XPERIMENT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TE EN PEQUEÑOS GRUPOS Y EN LA PRÓXIMA CLASE TRAE UNA EXPERIENCIA PRÁCTICA PARA DEMOSTRAR CADA UNA DE LAS TRES LEYES DEL MOVIMI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!SERÁ DIVERTID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SULT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CUÁLES SON LAS UNIDADES DE FUERZ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CUÁL ES LA DIFERENCIA ENTRE MASA Y PES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CUÁL ES EL INSTRUMENTO PARA MEDIR MAS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PESARÍAS LO MISMO EN LA LUN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QUÉ FUERZAS ACTÚAN EN UN CUERPO EN REPOS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QUE ACELERACIÓN ADQUIERE UN CUERPO DE 50 KG CUANDO SE LE APLICA UNA FUERZA DE 10 NEWT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CUÁNTO PESA UN HOMBRE QUE TIENE UNA MASA DE 100 KG. EN UN LUGAR DONDE LA ACELERACIÓN DE LA GRAVEDAD  ES LA SEXTA PARTE DE LA DE LA TIERR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ALIDA DE CAMP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RANTE LA VISITA AL RELLENO SANITARIO AVERIGUA QUE INSTRUMENTO UTILIZAN PARA MEDIR LA MASA DE RESIDUOS SÓLIDOS QUE SE PRODUCEN DIARIAMENTE EN LA CIU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 CANTIDAD SE PRODUCE EN UM MES Y CALCULA CUANTO SE PRODUCIRÍA EN DOCE MES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ÁNTOS AÑOS DE VIDA ÚTIL LE QUEDAN AL RELLENO SANITARI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É AREA OCUPA EL RELLENO SANITARI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ÁL ES EL VOLUMEN DE RESIDUOS QUE SE PRODUCEN EN LA CIUDAD DURANTE UN M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É MAQUINARIA SE UTILIZA EN EL TRANSPORTE Y TRATAMIENTO DE LOS RESIDUOS SÓLIDO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7:47:11Z</dcterms:created>
  <dc:creator>Chicos</dc:creator>
  <dc:description/>
  <dc:language>en-US</dc:language>
  <cp:lastModifiedBy>Chicos</cp:lastModifiedBy>
  <dcterms:modified xsi:type="dcterms:W3CDTF">2007-05-29T09:21:01Z</dcterms:modified>
  <cp:revision>8</cp:revision>
  <dc:subject/>
  <dc:title>FUERZAS</dc:title>
</cp:coreProperties>
</file>