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5" name="PlaceHolder 1"/>
          <p:cNvSpPr>
            <a:spLocks noGrp="1"/>
          </p:cNvSpPr>
          <p:nvPr>
            <p:ph type="sldImg"/>
          </p:nvPr>
        </p:nvSpPr>
        <p:spPr>
          <a:xfrm>
            <a:off x="-360" y="-9456840"/>
            <a:ext cx="360" cy="2030256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6"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1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1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1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1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C0205-5F82-44F3-B444-44C1D3324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7"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2C94E-F111-4C58-BBB6-C38F3E7F8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8CE68-A294-4C64-8613-BB3FDC7DB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5"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190D6-9A04-42D8-882F-AF1F612EE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BDA539-1F74-4731-B22C-4557A5C3FFA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E50EE3-F6AE-4B8E-A00F-A877127A9C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0"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4620C9-FF72-42F2-A618-EF5E5D366F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2"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DD8B60-1FC8-4681-A3C2-BBFF23B489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5F8B47-F8FD-493C-BFEE-5A1282555E6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1F8291-E77E-4B15-BC29-59024EBADF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0EAC8F-144B-4C63-BFC7-6C5CA1AE37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6840" y="1904760"/>
            <a:ext cx="8226360" cy="42685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C97AC-D560-4855-8DEA-B72D3A6DB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1"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9C35ED-6D0C-48E5-8585-E60829B68C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FC034D-8344-4030-93B8-239263A5D3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9" name="PlaceHolder 2"/>
          <p:cNvSpPr>
            <a:spLocks noGrp="1"/>
          </p:cNvSpPr>
          <p:nvPr>
            <p:ph/>
          </p:nvPr>
        </p:nvSpPr>
        <p:spPr>
          <a:xfrm>
            <a:off x="456840" y="190476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PlaceHolder 3"/>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D70DF5-FB8A-4BE7-B6B0-A541E53FE9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2"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5"/>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5A68A6-5C56-472A-9918-D8BD344FB3C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684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3"/>
          <p:cNvSpPr>
            <a:spLocks noGrp="1"/>
          </p:cNvSpPr>
          <p:nvPr>
            <p:ph/>
          </p:nvPr>
        </p:nvSpPr>
        <p:spPr>
          <a:xfrm>
            <a:off x="323820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4"/>
          <p:cNvSpPr>
            <a:spLocks noGrp="1"/>
          </p:cNvSpPr>
          <p:nvPr>
            <p:ph/>
          </p:nvPr>
        </p:nvSpPr>
        <p:spPr>
          <a:xfrm>
            <a:off x="6019560" y="190476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5"/>
          <p:cNvSpPr>
            <a:spLocks noGrp="1"/>
          </p:cNvSpPr>
          <p:nvPr>
            <p:ph/>
          </p:nvPr>
        </p:nvSpPr>
        <p:spPr>
          <a:xfrm>
            <a:off x="45684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6"/>
          <p:cNvSpPr>
            <a:spLocks noGrp="1"/>
          </p:cNvSpPr>
          <p:nvPr>
            <p:ph/>
          </p:nvPr>
        </p:nvSpPr>
        <p:spPr>
          <a:xfrm>
            <a:off x="323820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PlaceHolder 7"/>
          <p:cNvSpPr>
            <a:spLocks noGrp="1"/>
          </p:cNvSpPr>
          <p:nvPr>
            <p:ph/>
          </p:nvPr>
        </p:nvSpPr>
        <p:spPr>
          <a:xfrm>
            <a:off x="6019560" y="4134240"/>
            <a:ext cx="264852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A76224-3FF8-44E7-9D58-8EDF0CCBB9F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 name="PlaceHolder 2"/>
          <p:cNvSpPr>
            <a:spLocks noGrp="1"/>
          </p:cNvSpPr>
          <p:nvPr>
            <p:ph/>
          </p:nvPr>
        </p:nvSpPr>
        <p:spPr>
          <a:xfrm>
            <a:off x="456840" y="1904760"/>
            <a:ext cx="8226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8DF6A-68A3-4E86-ACDC-8A8E03120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E86F6-AB0A-4424-8AD1-92A841869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1E251-3C3A-446D-8893-7AB503D39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59920"/>
            <a:ext cx="8226360" cy="670464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E31D8-87E0-4171-997D-A61C4392F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24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68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24272-A526-4E7E-B2D8-D32892C4C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 name="PlaceHolder 2"/>
          <p:cNvSpPr>
            <a:spLocks noGrp="1"/>
          </p:cNvSpPr>
          <p:nvPr>
            <p:ph/>
          </p:nvPr>
        </p:nvSpPr>
        <p:spPr>
          <a:xfrm>
            <a:off x="456840" y="1904760"/>
            <a:ext cx="4014360" cy="42685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2440" y="413424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2FE7B-D2DD-498F-AD42-B9D8DD2BC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3" name="PlaceHolder 2"/>
          <p:cNvSpPr>
            <a:spLocks noGrp="1"/>
          </p:cNvSpPr>
          <p:nvPr>
            <p:ph/>
          </p:nvPr>
        </p:nvSpPr>
        <p:spPr>
          <a:xfrm>
            <a:off x="4568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2440" y="1904760"/>
            <a:ext cx="4014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6840" y="4134240"/>
            <a:ext cx="8226360" cy="203580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8085B-0375-48C5-8A0A-CF59F8E1B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59920"/>
            <a:ext cx="8226360" cy="144612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6840" y="1904760"/>
            <a:ext cx="8226360" cy="4268520"/>
          </a:xfrm>
          <a:prstGeom prst="rect">
            <a:avLst/>
          </a:prstGeom>
          <a:noFill/>
          <a:ln w="0">
            <a:noFill/>
          </a:ln>
        </p:spPr>
        <p:txBody>
          <a:bodyPr lIns="90000" rIns="90000" tIns="46800" bIns="4680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b">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b">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2C3E71-3D14-4B26-AFB4-FD06D20EA99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979280"/>
            <a:ext cx="7769160" cy="1446120"/>
          </a:xfrm>
          <a:prstGeom prst="rect">
            <a:avLst/>
          </a:prstGeom>
          <a:noFill/>
          <a:ln w="0">
            <a:noFill/>
          </a:ln>
        </p:spPr>
        <p:txBody>
          <a:bodyPr lIns="90000" rIns="90000" tIns="46800" bIns="46800" anchor="b" anchorCtr="1">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 name="PlaceHolder 2"/>
          <p:cNvSpPr>
            <a:spLocks noGrp="1"/>
          </p:cNvSpPr>
          <p:nvPr>
            <p:ph type="ftr" idx="4"/>
          </p:nvPr>
        </p:nvSpPr>
        <p:spPr>
          <a:xfrm>
            <a:off x="3123720" y="6245280"/>
            <a:ext cx="2892600" cy="47304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3080" y="6245280"/>
            <a:ext cx="213048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1E3737A-0CFF-4527-A6AC-87B0070024B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7200" y="6245280"/>
            <a:ext cx="2130480" cy="47304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996920"/>
            <a:ext cx="7772400" cy="1433520"/>
          </a:xfrm>
          <a:prstGeom prst="rect">
            <a:avLst/>
          </a:prstGeom>
          <a:noFill/>
          <a:ln w="0">
            <a:noFill/>
          </a:ln>
        </p:spPr>
        <p:txBody>
          <a:bodyPr lIns="90000" rIns="90000" tIns="46800" bIns="46800" anchor="b"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Tahoma"/>
              </a:rPr>
              <a:t>ESCOBITAS</a:t>
            </a:r>
            <a:endParaRPr b="0" lang="en-US" sz="4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Tahoma"/>
              </a:rPr>
              <a:t>ORIGEN</a:t>
            </a:r>
            <a:endParaRPr b="0" lang="en-US" sz="4400" spc="-1" strike="noStrike">
              <a:solidFill>
                <a:srgbClr val="ffffff"/>
              </a:solidFill>
              <a:latin typeface="Tahoma"/>
            </a:endParaRPr>
          </a:p>
        </p:txBody>
      </p:sp>
      <p:sp>
        <p:nvSpPr>
          <p:cNvPr id="89" name="PlaceHolder 2"/>
          <p:cNvSpPr>
            <a:spLocks noGrp="1"/>
          </p:cNvSpPr>
          <p:nvPr>
            <p:ph/>
          </p:nvPr>
        </p:nvSpPr>
        <p:spPr>
          <a:xfrm>
            <a:off x="468360" y="2349360"/>
            <a:ext cx="8229600" cy="411480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ffffff"/>
                </a:solidFill>
                <a:latin typeface="Tahoma"/>
              </a:rPr>
              <a:t>Los barrenderos en Popayán ejercen desde unos 100 años atrás, estos empezaron con labores de aseo por los sectores del centro y poco a poco fueron llegando a toda la ciudad.</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Tahoma"/>
              </a:rPr>
              <a:t>QUIENES SON</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ffffff"/>
                </a:solidFill>
                <a:latin typeface="Tahoma"/>
              </a:rPr>
              <a:t>Ellos son personas de muy bajos recursos, son personas de estratos no residenciales, viven en condiciones no muy favorables, su sueldo es el mínimo libre de todo gasto, ósea libre de riesgos profesionales, dotación, prima, se le brinda un seguro de salud.</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Tahoma"/>
              </a:rPr>
              <a:t>QUIEN LOS CONTRATA</a:t>
            </a:r>
            <a:endParaRPr b="0" lang="en-US" sz="4400" spc="-1" strike="noStrike">
              <a:solidFill>
                <a:srgbClr val="ffffff"/>
              </a:solidFill>
              <a:latin typeface="Tahoma"/>
            </a:endParaRPr>
          </a:p>
        </p:txBody>
      </p:sp>
      <p:sp>
        <p:nvSpPr>
          <p:cNvPr id="93" name="PlaceHolder 2"/>
          <p:cNvSpPr>
            <a:spLocks noGrp="1"/>
          </p:cNvSpPr>
          <p:nvPr>
            <p:ph/>
          </p:nvPr>
        </p:nvSpPr>
        <p:spPr>
          <a:xfrm>
            <a:off x="456840" y="1904760"/>
            <a:ext cx="8218440" cy="447660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Los barrenderos de Popayán, no ejercen especialmente de la alcaldía, son cooperativas que se encuentran designadas para la elaboración del aseo público, estas son veintiún (21) cooperativas a cargo del aseo, el aseo se realiza así:</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En el centro histórico todos los días</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En los barrios tres (3) veces a la semana</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Otros sectores una (1) vez a la semana</a:t>
            </a:r>
            <a:endParaRPr b="0" lang="en-US" sz="2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Tahoma"/>
              </a:rPr>
              <a:t>REQUERIMIENTOS</a:t>
            </a:r>
            <a:endParaRPr b="0" lang="en-US" sz="4400" spc="-1" strike="noStrike">
              <a:solidFill>
                <a:srgbClr val="ffffff"/>
              </a:solidFill>
              <a:latin typeface="Tahoma"/>
            </a:endParaRPr>
          </a:p>
        </p:txBody>
      </p:sp>
      <p:sp>
        <p:nvSpPr>
          <p:cNvPr id="95" name="PlaceHolder 2"/>
          <p:cNvSpPr>
            <a:spLocks noGrp="1"/>
          </p:cNvSpPr>
          <p:nvPr>
            <p:ph/>
          </p:nvPr>
        </p:nvSpPr>
        <p:spPr>
          <a:xfrm>
            <a:off x="468360" y="2349360"/>
            <a:ext cx="8229600" cy="411480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ffffff"/>
                </a:solidFill>
                <a:latin typeface="Tahoma"/>
              </a:rPr>
              <a:t>Para las diversas cooperativas se requiere un representante legal, y cada representante decide a quien contratar, pueden ser a todos los miembros de una familia si se da el caso.</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Tahoma"/>
              </a:rPr>
              <a:t>ORGANIZACION</a:t>
            </a:r>
            <a:endParaRPr b="0" lang="en-US" sz="4400" spc="-1" strike="noStrike">
              <a:solidFill>
                <a:srgbClr val="ffffff"/>
              </a:solidFill>
              <a:latin typeface="Tahoma"/>
            </a:endParaRPr>
          </a:p>
        </p:txBody>
      </p:sp>
      <p:sp>
        <p:nvSpPr>
          <p:cNvPr id="97" name="PlaceHolder 2"/>
          <p:cNvSpPr>
            <a:spLocks noGrp="1"/>
          </p:cNvSpPr>
          <p:nvPr>
            <p:ph/>
          </p:nvPr>
        </p:nvSpPr>
        <p:spPr>
          <a:xfrm>
            <a:off x="611280" y="1700280"/>
            <a:ext cx="7859520" cy="4535280"/>
          </a:xfrm>
          <a:prstGeom prst="rect">
            <a:avLst/>
          </a:prstGeom>
          <a:noFill/>
          <a:ln w="0">
            <a:noFill/>
          </a:ln>
        </p:spPr>
        <p:txBody>
          <a:bodyPr lIns="90000" rIns="90000" tIns="46800" bIns="46800" anchor="t">
            <a:normAutofit/>
          </a:bodyPr>
          <a:p>
            <a:pPr marL="339840" indent="-339840" algn="just">
              <a:lnSpc>
                <a:spcPct val="10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Estas deben constar como un mínimo de diez y seis (16) integrantes por cooperativa y un máximo de treinta y dos (32), aunque en este momento cada cooperativa tiene un nivel de veinte cuatro (24) personas y hay un total de quinientos cuarenta y uno (541) empleados ejerciendo estas labores.</a:t>
            </a:r>
            <a:endParaRPr b="0" lang="en-US" sz="2800" spc="-1" strike="noStrike">
              <a:solidFill>
                <a:srgbClr val="ffffff"/>
              </a:solidFill>
              <a:latin typeface="Tahoma"/>
            </a:endParaRPr>
          </a:p>
          <a:p>
            <a:pPr marL="339840" indent="-339840">
              <a:lnSpc>
                <a:spcPct val="10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Todas las cooperativas deben residir en un mismo punto.</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7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Tahoma"/>
              </a:rPr>
              <a:t>UNIFORME</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3000" indent="-333000" algn="just">
              <a:lnSpc>
                <a:spcPct val="8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Estas personas deben manifestar el interés, por que quieren dedicarse a este oficio, y de tal manera será diligencia los trámites para el empleo, deben contar con una implementación como:</a:t>
            </a:r>
            <a:endParaRPr b="0" lang="en-US" sz="2800" spc="-1" strike="noStrike">
              <a:solidFill>
                <a:srgbClr val="ffffff"/>
              </a:solidFill>
              <a:latin typeface="Tahoma"/>
            </a:endParaRPr>
          </a:p>
          <a:p>
            <a:pPr marL="333000" indent="-333000" algn="just">
              <a:lnSpc>
                <a:spcPct val="8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Guantes</a:t>
            </a:r>
            <a:endParaRPr b="0" lang="en-US" sz="2800" spc="-1" strike="noStrike">
              <a:solidFill>
                <a:srgbClr val="ffffff"/>
              </a:solidFill>
              <a:latin typeface="Tahoma"/>
            </a:endParaRPr>
          </a:p>
          <a:p>
            <a:pPr marL="333000" indent="-333000" algn="just">
              <a:lnSpc>
                <a:spcPct val="8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Tapabocas</a:t>
            </a:r>
            <a:endParaRPr b="0" lang="en-US" sz="2800" spc="-1" strike="noStrike">
              <a:solidFill>
                <a:srgbClr val="ffffff"/>
              </a:solidFill>
              <a:latin typeface="Tahoma"/>
            </a:endParaRPr>
          </a:p>
          <a:p>
            <a:pPr marL="333000" indent="-333000" algn="just">
              <a:lnSpc>
                <a:spcPct val="8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Uniforme adecuado</a:t>
            </a:r>
            <a:endParaRPr b="0" lang="en-US" sz="2800" spc="-1" strike="noStrike">
              <a:solidFill>
                <a:srgbClr val="ffffff"/>
              </a:solidFill>
              <a:latin typeface="Tahoma"/>
            </a:endParaRPr>
          </a:p>
          <a:p>
            <a:pPr marL="333000" indent="-333000" algn="just">
              <a:lnSpc>
                <a:spcPct val="80000"/>
              </a:lnSpc>
              <a:spcBef>
                <a:spcPts val="700"/>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ffffff"/>
                </a:solidFill>
                <a:latin typeface="Tahoma"/>
              </a:rPr>
              <a:t>Estos implementos deben ser portados todos los días, sino es el caso podrían acarrear sanciones.</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39840" indent="-339840" algn="just">
              <a:lnSpc>
                <a:spcPct val="100000"/>
              </a:lnSpc>
              <a:spcBef>
                <a:spcPts val="799"/>
              </a:spcBef>
              <a:buClr>
                <a:srgbClr val="ffcc00"/>
              </a:buClr>
              <a:buSzPct val="120000"/>
              <a:buFont typeface="Tahoma"/>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ffffff"/>
                </a:solidFill>
                <a:latin typeface="Tahoma"/>
              </a:rPr>
              <a:t>Son personas que se sienten con gran capacidad de ejercer este oficio, que manifiestas en sentirse bien con lo que desarrollan.</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ESCOBITAS</dc:title>
</cp:coreProperties>
</file>