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83AE-1042-43A9-9D9C-D770A3DF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6176-91A2-4996-8D54-BB509BBA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757-394F-45D6-AF8A-367A9C15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D47A-3582-4655-B0FF-407137EA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BEDD-A96E-415D-AF60-FF1C24CC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FAF1-D388-409B-B9C8-D1DF6A63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F98A-5241-46E2-813B-F008D108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E0C8-084B-4293-98BD-72F41AC6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C5CC-9CF2-44F2-8713-D7E2CCC0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F42E-1243-4526-829E-37062FDE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459F-E857-46DA-B8C2-A034B860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EBC0-7ADA-4555-A1BB-1C4A5659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D18C-7FEE-4015-BE59-F0ACFAAD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D314-C1B5-4684-8CB5-EBB50758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AAA7-6E91-497A-84D4-3B999A52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8A65-55E0-461F-AAC5-320D1F92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947D-D05D-4970-952E-A31A814C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FD2-0E2B-4A8C-8E40-83831417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8D9-3DBE-428F-A0E1-0085BAF5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3BE2-BB32-446C-96AE-349EE96F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BE9D-88FE-4495-9DF2-AE0CDD08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DADE-D706-4D36-A6F8-6B68D874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2F2-879D-4E76-8061-F981FB0C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98E9-D299-4A1C-B515-DF31E69D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4660-71D9-4810-9BEB-DF36BC2FF56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01E4-B54B-4127-AF8F-EBCC67D50C6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6966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CUADROS EN PAPEL RECICLADO Y TARJETERÍA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ABORA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RECOGEMOS EL PAPEL QUE DESECHAN LOS ESTUDIANTES EN LOS SALON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SE PONE EN REMOJ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LICUAMOS  EN PEQUEÑAS CANTIDAD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COMBINAMOS  CON TINTES NATURALES, O RESIDUOS DE FRUTAS O VERDURAS PARA DARLE COLOR Y TEXTUR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SE COLOCA EN UN LIENZO O CEDAZO DEL TAMAÑO DESEADO Y SE PONE A SECA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LUEGO SE ESCOGE LA TEMÁTICA QUE EN NUESTRO CASO FUE : LA SITUACIÓN AMBIENTAL DE LA COMUNIDAD EDUCATIVA Y DE LA  CIUDA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PINTAMOS CON VINILOS Y SE MANDA ENMARCA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3:13:49Z</dcterms:created>
  <dc:creator>Chicos</dc:creator>
  <dc:description/>
  <dc:language>en-US</dc:language>
  <cp:lastModifiedBy>Chicos</cp:lastModifiedBy>
  <dcterms:modified xsi:type="dcterms:W3CDTF">2007-05-29T13:24:01Z</dcterms:modified>
  <cp:revision>2</cp:revision>
  <dc:subject/>
  <dc:title>CUADROS EN PAPEL RECICLADO Y TARJETERÍA</dc:title>
</cp:coreProperties>
</file>