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3C5-23D4-44A8-90CE-FC8412DC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FA0-C12D-4269-A443-FF5BF6D3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E7F-1E2C-48D3-8BBD-31BEBC43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216-3B49-4DBD-A507-BF34EF92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0879-C78D-4195-96E4-6CC11098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AB7-E1E2-4445-98BA-32A82E98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C1A9-2B15-4C90-935A-3FFE3FF0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42E-6DA3-4830-902F-04BE9CDA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E8E1-5FB6-4384-8E08-1E8560A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839-3C4F-4A2D-A329-43B698A5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BE8-B484-49E1-BE61-CB07F677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B14-98E0-4890-ACFB-F746452B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D55A-2B54-4509-8250-2D9FECE1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CF97-1D4E-47A0-A364-6AB973D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AB8B-3A58-446D-A8AD-22C6BAE9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D5A8-1D27-44D2-B933-582CB618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AB11-991E-4E95-9F70-E5016637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B9F-7320-4001-98BA-9B8EAC50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B5A-4EAA-459D-8286-4D456FF7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8C2-BAD2-41D1-A226-0F5B611E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EFE-12CC-42AB-A6F8-D5252B82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A14-5BDF-4A66-B6C7-91559BF0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7F2-7ECB-4811-B4DE-00F2189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F03-9E5E-406C-AC7F-13753C3A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9B8F-FCDC-4A03-A0F9-C36A998370C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CF8-197A-49E2-9E95-A98F4670AB5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696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Arial"/>
              </a:rPr>
              <a:t>CUADROS CON VIDRIO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ABOR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CONSIGUE UNA TABLA DE TRIPLEX DE 30 CM X 40 CM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REALIZA EL DISEÑO CON LAPIZ SOBRE LA TABL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LUEGO CON VITRAPLOMO SE DELINEAN  LOS BORD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RELLENAN LOS ESPACIOS CON VIDRIO TRITURADO DE DIFERENTE GROSOR DE ACUERDO AL DIBUJO Y SE PEGA CON COLB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PINTA CON VITRASETA DE DIFERENTES COLOR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SE MANDA ENMARCA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3:06:42Z</dcterms:created>
  <dc:creator>Chicos</dc:creator>
  <dc:description/>
  <dc:language>en-US</dc:language>
  <cp:lastModifiedBy>Chicos</cp:lastModifiedBy>
  <dcterms:modified xsi:type="dcterms:W3CDTF">2007-05-29T13:13:19Z</dcterms:modified>
  <cp:revision>1</cp:revision>
  <dc:subject/>
  <dc:title>CUADROS CON VIDRIO</dc:title>
</cp:coreProperties>
</file>