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FFB-5D21-4406-AC14-6AACBBE8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D6D-7A83-41A5-813E-CD7DBB0D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EA3-926F-4941-BF8B-B2214E07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BE1-75BA-41B6-B3AD-2E08034F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1BBE-993D-45CF-A1C8-9F49DACB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AD85-F763-4171-BA1B-BB060B7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D942-35A1-4E74-9FA0-02C3C8C8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B2E8-0C74-4015-92CD-207AD04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F83B-09D1-49F0-B15D-BDA80C5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C46B-E7D3-4B73-B56E-C5AFE56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1783-A8BF-4D0F-A73B-760B8E8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AA2-F043-4391-98B3-FBCB5414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6B98-BC31-4387-9E6E-5E330A5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8CE1-FB75-424E-AC2D-5C16BC10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97D-28AD-4C17-BCC9-2F71A9D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9B1C-3C53-4D1C-B56C-A15FD189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BE6-005C-4041-8B0C-8C24CC83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8DE-863E-49E7-AE04-18AAC6E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CC0-71A5-4F4F-A763-AE35930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E64-B059-4EAA-A56A-8EC42A0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2C4-8248-4598-A8ED-A4CD8AE3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AD7-8BAB-4AE5-BFCB-96D9445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909-59CC-4CE6-9A92-1C8D55D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142-A95E-4BF4-AD72-4F335B4D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BE8-F6C5-462D-9121-BFB28191EA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5F1-E546-46B3-8AA7-037D2EFB6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RTÍCULOS DE OFICIN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DISCIPLINARIEDAD CON LA MOD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JETI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7772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R EL PROYECTO EN CIENCIA TECNOLOGÍA Y SOCIEDAD CON LA MODALIDAD COMERCIAL DE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OLOG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75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ASIGNATURA DE EMPRENDIMIENTO LOS ESTUDIANTES APRENDEN A CONFORMAR UNA MICRO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IBEN CAPACITACIÓN DEL SENA EN ELABORACIÓN DE PRODUCTOS Y ARTESANÍAS CON  RESIDUOS SÓL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GRUPOS ESCOGEN UN ARTÍCULO DE OFICINA COMO: CARPETAS, PISAPAPELES, ARCHIVADORES, LIBRETA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ERI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ATERIAL UTILIZADO ES CARTÓN Y PAPEL RECICLADO QUE SE DECORA CON GRAN DELICADEZA PARA DARLE UN EXCELENTE ACABADO Y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EL RECICLADO SE UTILIZA PARA ELABORAR LIBRETAS Y TARJETAS DE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3:47:37Z</dcterms:created>
  <dc:creator>Chicos</dc:creator>
  <dc:description/>
  <dc:language>en-US</dc:language>
  <cp:lastModifiedBy>Chicos</cp:lastModifiedBy>
  <dcterms:modified xsi:type="dcterms:W3CDTF">2007-05-30T14:02:13Z</dcterms:modified>
  <cp:revision>2</cp:revision>
  <dc:subject/>
  <dc:title>ARTÍCULOS DE OFICINA</dc:title>
</cp:coreProperties>
</file>