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1DF-32F6-43E4-A3B9-A336E240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29B-833C-493A-9847-082FAC7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411-1CD4-43D3-824C-254CBC48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E1A-0E27-4E0E-A262-FEB63F85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F9A2-1D80-436C-94B1-9FE08708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8253-06C0-446D-8912-AB5D2B5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D64B-2949-4F72-A4E3-940597C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CD3B-1E62-4234-B691-C3A1146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32E-8ADD-4D09-B1C1-2F906E4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B9C7-245E-4D77-B956-333C87AE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AC5-FE77-4E5C-83D3-D11A605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398-D7C1-4466-A9B5-F0EC637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F13B-140E-4724-8D93-0CAA59B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7F78-5510-49F2-A601-3B8FF0E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6C4-5CD5-437B-878E-221D460B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FC08-0D9C-4F39-BB5A-21AB7C48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4261-9CFC-4F8C-B50F-147ED3C1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910-EED5-40E6-AAC1-BDEB891D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0FA-231F-462A-B146-24D559D0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C45-6340-4F81-B7FA-DBED36C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64A-2945-4EC5-92DE-352936C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B9C-109F-4E42-B293-E2AD81D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94C-A989-4D05-AECD-B2A14C9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932-A31F-4138-8059-9DD8884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54DFE5-088C-4BE2-B5EE-5D8EC642F1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683B97-0B7D-4D5C-AF92-2059A54A13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7240" y="-1209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VITRAL GUIDE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79280" y="1260360"/>
            <a:ext cx="7019640" cy="55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 you are going to make a Vitral, you have to get the following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intbru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traceta(special liqu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traplomo(specialbordering liqu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tex Glo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leaner and washable tow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iplex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cycled Bottles or G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ccecff"/>
                </a:solidFill>
                <a:latin typeface="Comic Sans MS"/>
              </a:rPr>
              <a:t>STEPS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92280"/>
            <a:ext cx="81709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1.    Involve the bottle inside a rug, then crush it  with a hammer or a stone, remember is necessary that glasses have different siz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78080" y="385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2520" y="2658960"/>
            <a:ext cx="8763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2.   Desing a picture on the triplex    board, and  throw glue covering all the draw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57360" y="720720"/>
            <a:ext cx="4202280" cy="53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0720" y="2555640"/>
            <a:ext cx="7559640" cy="19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6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3. Put on the gloves and sellect the  sizes of glasses for decorating the picture according to your desing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15960" y="11462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0000" y="1370880"/>
            <a:ext cx="63007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4.   After a time, when glasses are glued to the board, you can picture them with different tones of VITRACET, and  use VITRAPLOM to border the draw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15960" y="11462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IAN</dc:creator>
  <dc:description/>
  <dc:language>en-US</dc:language>
  <cp:lastModifiedBy>FABIAN</cp:lastModifiedBy>
  <cp:revision>0</cp:revision>
  <dc:subject/>
  <dc:title>VITRAL GUIDE </dc:title>
</cp:coreProperties>
</file>