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402-A605-4655-BD3F-845AD912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4ED-14F1-4CD5-8D92-3D478950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BA7-A3A8-4345-B51B-251FBD99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EEA-0DE8-4D25-82D1-A64328DB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0CE-9CC2-4862-9477-374CDEB4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4776-E367-4B99-8A1A-AC4D775C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A885-FC98-46F6-A86A-CA2F8E2D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91F2-B543-4EF7-93AF-6F8C24C5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A9E0-315E-4E71-88AA-81A3384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76D1-C057-43B0-9818-7C75224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EB49-FFF3-46E5-A2AF-BDC9BBE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A86-770F-40E3-8D55-A1B9293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1B3B-F329-4AE9-BC39-65E4DFBD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4E4E-3F2B-405B-8C6A-021514C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7091-2841-4967-BFF8-7FB65D5C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43F4-B0EE-478D-B83E-44763F57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1804-A957-4C59-A0B2-B75D7E0D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842-29E8-499B-9ADD-85BFB8E4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8F3-BDBA-4188-AB4E-978FCA23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8AB-472E-4A04-B7D3-85F2F3EC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E93-1444-48A7-8DB3-3E5F05B7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5B2-525B-4448-AF3F-0FDD2238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12C-7A1F-49E6-B1FD-842314F8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8D2-A1AF-4968-B10D-073308E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B71F-2A51-4AE9-8247-3C758E20E32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42BC-56A0-4329-95E0-A51B0FABA24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"/>
              </a:rPr>
              <a:t>TRANSLATION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eaeaea"/>
                </a:solidFill>
                <a:latin typeface="Comic Sans MS"/>
              </a:rPr>
              <a:t>Students of Grade 10th must attend an oral evaluation for checking their improvement in translation usin the text about G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3:32:42Z</dcterms:created>
  <dc:creator>SPAWN</dc:creator>
  <dc:description/>
  <dc:language>en-US</dc:language>
  <cp:lastModifiedBy>FABIAN</cp:lastModifiedBy>
  <dcterms:modified xsi:type="dcterms:W3CDTF">2007-08-31T06:25:11Z</dcterms:modified>
  <cp:revision>3</cp:revision>
  <dc:subject/>
  <dc:title>TRANSLATION.</dc:title>
</cp:coreProperties>
</file>