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C6F-1F96-4C6B-866F-45AC897A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E2A-B17B-4A29-8ED7-F3E58FC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B0A-279D-42FE-BB42-49FBA199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3E7-EC3E-4F99-9286-0C05D50F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8A7-696D-471C-A510-7C702550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CE4-109D-41AE-B917-EDCF5E50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FE0-9B69-4395-B7D2-1EAE925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13E0-4ECC-4E6C-83CB-247D8BB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2370-CDDD-4C71-9F9E-4E681F61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069A-8A33-478C-91D6-54E0840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A0C8-82B0-4CB0-AC62-DC5C534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1F6-BF00-4439-AA0F-5FDE880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EB2-FDE2-431A-95E3-CBFB7B9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08BF-A1CC-4C4C-9B79-480F155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7F4B-C9B0-44C7-8673-8C839E8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75E-F88F-4A38-A284-4D753A5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BE37-9DE0-4CDB-ACBA-5527AC3E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774-5E43-4340-84D2-CCFAB8AD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20A-973C-4CFF-B3A6-BC69C44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4E9-263E-4058-B56D-6E4C87F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6A3-2367-4D56-BDF6-CED2F1B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834-7B2D-4D69-8F34-ADACD54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6DF-D256-43EA-B18C-C1016F9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0E0-C293-4D42-BBBA-1B5C185F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7311E-96FB-4B9F-8041-13864C2741B5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323720"/>
            <a:ext cx="7085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F333C7-FF48-4524-837A-CC4CDEFDC25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eaeaea"/>
                </a:solidFill>
                <a:latin typeface="comic"/>
              </a:rPr>
              <a:t>SPEAKING.</a:t>
            </a: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udents of Grade 10th will talk about their projects titled “Helping the planet” and focused on Glass Recycling, so they can practice oral express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AWN</dc:creator>
  <dc:description/>
  <dc:language>en-US</dc:language>
  <cp:lastModifiedBy>FABIAN</cp:lastModifiedBy>
  <cp:revision>0</cp:revision>
  <dc:subject/>
  <dc:title>SPEAKING. </dc:title>
</cp:coreProperties>
</file>