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3550-925E-474E-BA16-7CB9347AC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30BA-FD86-4527-98C4-9DF4D065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494B-62F9-4F05-BA0D-2EC75FC53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BC58-AFD8-4C1C-8A30-23967BB8F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62C4-66E0-45D7-AE5B-55FB46DB6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DEEA-FE7A-46C4-BCB4-3854FF29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4841-D4C9-4EF3-9CD1-4785481A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5779-E4F6-4AF3-A5E4-C7DFCAED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34CF-F667-405B-A55A-AF7877C6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A4C3-6D80-4ADC-8260-4817D201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7D728-8A10-4020-9660-0C148670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3125-CBB5-42B5-849F-FC24F0CE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AFEE3-3CA9-44D0-B65C-EA941FE4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6F69-D147-4992-945D-745A38DE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7404D-1FAA-43BC-BEE0-98D85003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3195-7FA7-4B93-A2D0-46364CE85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A3DD-7289-4455-B8C8-5EC994927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E482-5D48-4CE5-987C-5C80BAE1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7861-95FF-4DF3-B161-617758DE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4163-F385-442D-8030-0D6C218E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3A00-1881-4124-9F53-8E21351A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20EF-CF60-4CAD-8EE9-68D48450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79EA-51E7-4556-BC30-AF61409C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F191-A868-44B4-BD60-8ADC8A9A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50436DD-BCE8-4C1A-8EFD-9FEA32109837}" type="slidenum">
              <a:rPr b="0" lang="en-GB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1240" indent="-284040">
              <a:lnSpc>
                <a:spcPct val="102000"/>
              </a:lnSpc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096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126BD15-3BEA-4D20-856D-BEA085BA6E17}" type="slidenum">
              <a:rPr b="0" lang="en-GB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ffffcc"/>
                </a:solidFill>
                <a:latin typeface="comic"/>
              </a:rPr>
              <a:t>HUMAN RESOURCES</a:t>
            </a: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Comic Sans MS"/>
              </a:rPr>
              <a:t>Electronic Enginner Ulises Hernández UNIVERSITY OF CAUCA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en-GB" sz="1800" spc="-1" strike="noStrike">
                <a:solidFill>
                  <a:srgbClr val="eaeaea"/>
                </a:solidFill>
                <a:latin typeface="Comic Sans MS"/>
              </a:rPr>
              <a:t>Teacher Claudia Castro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12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Comic Sans MS"/>
              </a:rPr>
              <a:t>   </a:t>
            </a:r>
            <a:r>
              <a:rPr b="1" lang="en-GB" sz="1800" spc="-1" strike="noStrike">
                <a:solidFill>
                  <a:srgbClr val="eaeaea"/>
                </a:solidFill>
                <a:latin typeface="Comic Sans MS"/>
              </a:rPr>
              <a:t>NACIONAL POLICE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12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Comic Sans MS"/>
              </a:rPr>
              <a:t>   </a:t>
            </a:r>
            <a:r>
              <a:rPr b="1" lang="en-GB" sz="1800" spc="-1" strike="noStrike">
                <a:solidFill>
                  <a:srgbClr val="eaeaea"/>
                </a:solidFill>
                <a:latin typeface="Comic Sans MS"/>
              </a:rPr>
              <a:t>OUR LADY OF FÁTIMA HIGH SCHOOL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12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Comic Sans MS"/>
              </a:rPr>
              <a:t>   </a:t>
            </a:r>
            <a:r>
              <a:rPr b="1" lang="en-GB" sz="1800" spc="-1" strike="noStrike">
                <a:solidFill>
                  <a:srgbClr val="eaeaea"/>
                </a:solidFill>
                <a:latin typeface="Comic Sans MS"/>
              </a:rPr>
              <a:t>POPAYA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12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Comic Sans MS"/>
              </a:rPr>
              <a:t>Teacher  Carmen Gisela Concha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12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Comic Sans MS"/>
              </a:rPr>
              <a:t>   </a:t>
            </a:r>
            <a:r>
              <a:rPr b="1" lang="en-GB" sz="1800" spc="-1" strike="noStrike">
                <a:solidFill>
                  <a:srgbClr val="eaeaea"/>
                </a:solidFill>
                <a:latin typeface="Comic Sans MS"/>
              </a:rPr>
              <a:t>NACIONAL POLICE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12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Comic Sans MS"/>
              </a:rPr>
              <a:t>   </a:t>
            </a:r>
            <a:r>
              <a:rPr b="1" lang="en-GB" sz="1800" spc="-1" strike="noStrike">
                <a:solidFill>
                  <a:srgbClr val="eaeaea"/>
                </a:solidFill>
                <a:latin typeface="Comic Sans MS"/>
              </a:rPr>
              <a:t>OUR LADY OF FÁTIMA HIGH SCHOOL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12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Comic Sans MS"/>
              </a:rPr>
              <a:t>   </a:t>
            </a:r>
            <a:r>
              <a:rPr b="1" lang="en-GB" sz="1800" spc="-1" strike="noStrike">
                <a:solidFill>
                  <a:srgbClr val="eaeaea"/>
                </a:solidFill>
                <a:latin typeface="Comic Sans MS"/>
              </a:rPr>
              <a:t>POPAYA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12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Comic Sans MS"/>
              </a:rPr>
              <a:t>REGIONAL AUTONOMOUS CPRPORATION (CRC)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12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Comic Sans MS"/>
              </a:rPr>
              <a:t>OTHERS:</a:t>
            </a:r>
            <a:r>
              <a:rPr b="1" lang="en-GB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eaeaea"/>
                </a:solidFill>
                <a:latin typeface="Comic Sans MS"/>
              </a:rPr>
              <a:t>PARENTS AND BORDERING COMUNITY OF_OUR LADY OF FÁTIMA HIGH SCHOOL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12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Comic Sans MS"/>
              </a:rPr>
              <a:t>   </a:t>
            </a:r>
            <a:r>
              <a:rPr b="1" lang="en-GB" sz="1800" spc="-1" strike="noStrike">
                <a:solidFill>
                  <a:srgbClr val="eaeaea"/>
                </a:solidFill>
                <a:latin typeface="Comic Sans MS"/>
              </a:rPr>
              <a:t>POPAYA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12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Verdana"/>
              </a:rPr>
              <a:t>___________________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12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PAWN</dc:creator>
  <dc:description/>
  <dc:language>en-US</dc:language>
  <cp:lastModifiedBy>FABIAN</cp:lastModifiedBy>
  <cp:revision>0</cp:revision>
  <dc:subject/>
  <dc:title>RECURSOS HUMANOS. </dc:title>
</cp:coreProperties>
</file>