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E622-FE50-4832-A00D-838194BE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EA65-0864-4208-8007-ECAD1DF7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A940-515D-4DE8-90B3-308586F2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B82D-C097-492E-A264-8E49D058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872E9-4D4A-493C-864F-3273259A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2FF1D-FA90-4A27-90D8-5E714AB8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D3B2B-4B48-4C54-ABE1-F3854085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548E9-D79A-4C96-87BD-6B869FA5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6E6C2-A052-4690-8D8F-E7393823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3DE61-0273-4A8B-B5A8-B2490564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C7EF0-F7F9-43A1-B4C0-CF8FDFA2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B742-8817-4D14-9382-4FDD4A56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5C1D5-1A88-4D57-80D7-AAF52105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7558E-90BA-44B4-B9F1-D2ED7E9C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BC51D-469F-4268-9A06-CC0CB063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24920-47C7-413F-A093-207AC4AF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607C4-FF16-46BA-A949-9CAEB5A2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C550-8C7B-44D1-9FD8-48E094FF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9CA9-E220-46B2-86B5-36E22B50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B8C7-DF04-4445-9F36-27A0E958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9624-24C2-4AAA-A1DD-30771D47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7765-6756-4025-963B-812656E6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56F6-41E0-4F40-BDC1-85B1E3D4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607-F03B-4FD1-89EC-62441370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7F23-A84C-45BF-B33F-F396464FBA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3664-E5E7-42F6-9128-10F79E55B7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800" spc="-1" strike="noStrike">
                <a:solidFill>
                  <a:srgbClr val="e3e3ff"/>
                </a:solidFill>
                <a:latin typeface="comic"/>
              </a:rPr>
              <a:t>Physical resources.</a:t>
            </a:r>
            <a:r>
              <a:rPr b="0" lang="es-CO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Our Lady of Fátima High  School – Popayán – POLICIA NACION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English Laboratory - Our Lady of Fátima High  School - Popayán - POLICIA NACION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Physics Laboratory - Our Lady of Fátima High  School - Popayán - POLICIA NACION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Others: Parents and Bordering Community of Our Lady of Fátima High  School - Popayán - POLICIA NACION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University of Cauc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Regional Autonomous Corporation of Cauca (CRC-Corporacion Autonomam Regional del Cauc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02:57:52Z</dcterms:created>
  <dc:creator>SPAWN</dc:creator>
  <dc:description/>
  <dc:language>en-US</dc:language>
  <cp:lastModifiedBy>FABIAN</cp:lastModifiedBy>
  <dcterms:modified xsi:type="dcterms:W3CDTF">2007-08-31T05:07:57Z</dcterms:modified>
  <cp:revision>4</cp:revision>
  <dc:subject/>
  <dc:title>RECURSOS FÍSICOS. </dc:title>
</cp:coreProperties>
</file>