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D0F-C519-48EF-A1FB-C1C5FF78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998-7FC0-4B9C-8005-97AE5740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962-8BEA-45B0-8AD0-AF05E465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1A7-A789-4427-8E6B-657E6136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809C-E781-4510-8F2F-1CB973F7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D7EF-B5E2-4DB1-B206-163E3A98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1DEA-3BB0-4E4D-AC78-A9E5D29B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87D9-EEE1-40B5-B218-FA3637F7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6409-A88C-4DE4-A0F8-5F99F143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D096-F162-414A-BF28-F0239600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863F-E310-478B-89AF-83B9151B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3E19-C67E-4139-9C5E-8AEEE778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F343-7755-4A20-8700-D7574C24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C3C7-2F9F-4324-BC86-F20F56BB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F16D-3A08-4CF2-A83B-3C13EEA9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3DBD-ED1B-4F0A-BB8A-83EF631C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70BC-9E92-4C7B-81F2-1CE9B7F5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6A7-675A-4ACE-BDDB-C329FBA8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D35A-E567-46DE-BA76-9D63BF1E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CA40-00B6-4A2E-8977-B40CB4B0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1E18-449F-4874-9DFA-0DAB62FB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7D65-51DF-4CBB-B933-DD522207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13F-14DB-45BF-A661-B8D40130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B8D9-8704-45C0-A4CD-490FF216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FEE1-F057-419E-BE79-D148CF3C13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2C30-98C6-49FC-8D6C-0BF4C81981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800" spc="-1" strike="noStrike">
                <a:solidFill>
                  <a:srgbClr val="b7e7ff"/>
                </a:solidFill>
                <a:latin typeface="comic"/>
              </a:rPr>
              <a:t>General objective</a:t>
            </a:r>
            <a:r>
              <a:rPr b="0" lang="es-CO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2707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Comic Sans MS"/>
              </a:rPr>
              <a:t>Knowing and using as working tool the mental map through FREE MIND Progr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02:33:14Z</dcterms:created>
  <dc:creator>SPAWN</dc:creator>
  <dc:description/>
  <dc:language>en-US</dc:language>
  <cp:lastModifiedBy>FABIAN</cp:lastModifiedBy>
  <dcterms:modified xsi:type="dcterms:W3CDTF">2007-08-31T03:37:50Z</dcterms:modified>
  <cp:revision>4</cp:revision>
  <dc:subject/>
  <dc:title>OBJETIVO GENERAL. </dc:title>
</cp:coreProperties>
</file>