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35DE-B0F2-4662-8B58-0BCDE27F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97FA-43C2-4D12-BD40-79C4D191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1BD8-64C1-4B9C-93C9-41535E14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9EB9-FB20-4EB7-ABD0-827CC4FD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4A75-5085-4A5B-A611-88056B3D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8A87-F062-4AA2-95BE-AEA89D7D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D599-56B0-4902-9BBD-A4B6702E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A7A-D6D5-443C-BB84-A173B316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7661-0ED9-4254-BFF6-69267D33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433-7A66-4D01-BA19-2B1DC4EA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B63-14E7-4DDB-9BD4-F7BC4BF3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7094-4A38-4D7A-A281-C36FA37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2582-5DDB-48E8-B13B-11A7958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6BD7-9F30-404A-9A49-B9CFE75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F170-C7E7-42E5-81AB-9B0C6CA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0DB5-1530-485D-9F4A-53AEF346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884E-2D68-47F1-90B4-931A54DF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C1D0-5E10-4375-8DE1-B5F5ABE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B91D-887A-4CC1-9435-0CD2B1A1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6D5D-8159-482A-AF09-27F08441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55A9-D22F-45DB-B097-2CA2C67D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8141-F863-443E-8F51-F4EA01BA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F884-54AA-4CBF-B962-49C1C74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22EB-CE44-438D-91D7-87F341E8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348-ECA9-47C9-9266-B591EFB748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6CA0-5BEB-4EF4-B254-08184045D9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dfdef6"/>
                </a:solidFill>
                <a:latin typeface="comic"/>
              </a:rPr>
              <a:t>SPECIFIC OBJECTIVE</a:t>
            </a:r>
            <a:r>
              <a:rPr b="0" lang="es-CO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7040" y="2731680"/>
            <a:ext cx="792972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omic Sans MS"/>
              </a:rPr>
              <a:t>Do the Glass Recycl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omic Sans MS"/>
              </a:rPr>
              <a:t>Create a Jclic G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Comic Sans MS"/>
              </a:rPr>
              <a:t>Make a Mental Map for checking the four abilities in foreing Language process (comprehension, speaking, writing, reading)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, which will be the final product to evaluate students of Grade 10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2:41:40Z</dcterms:created>
  <dc:creator>SPAWN</dc:creator>
  <dc:description/>
  <dc:language>en-US</dc:language>
  <cp:lastModifiedBy>FABIAN</cp:lastModifiedBy>
  <dcterms:modified xsi:type="dcterms:W3CDTF">2007-08-31T06:08:08Z</dcterms:modified>
  <cp:revision>8</cp:revision>
  <dc:subject/>
  <dc:title>OBJETIVOS ESPECÍFICOS. </dc:title>
</cp:coreProperties>
</file>