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35124-5593-424B-A5AF-5910766EF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71168-EC22-4A7A-9056-333EBB2B5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EB3A6-3DD6-4F2B-8FCD-E0C827F33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417D8-7555-4BCF-82DD-DAB3F5280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DB2BC-41B2-4C8B-A68F-A565D1602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1AE84-574F-4935-8185-427967A20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F5A3C-59E7-4B50-B593-118FE550A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C997F-1204-473E-BCBE-EFE5A6266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8EEF3-8BB2-497D-A274-C3A699835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0E945-136A-4346-BD8D-06FE82E23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FCF5C-8C15-4BA8-8B86-4BA7378C3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33F15-FF97-49D6-A330-0EF41EE16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FA9DB-DB70-4EB8-A931-86BE0D227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44AF3-4609-4313-944D-7713F660D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70098-A229-4663-AD7C-23B1B713A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3B556-E73D-4FBE-9438-C0ABD893F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BD3E8-DC89-4230-86EE-91CAF2111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F90EE-1FC4-47B3-BDB6-6E4872218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BDB40-3022-409A-9FDA-04309B927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6D8DD-3E5D-464A-8AD2-FA2B2311C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F7704-F697-4CEA-A559-42B74567F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5387B-B163-4090-9902-C2F13EB6F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B194D-73BE-482E-8156-F7C3111EF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95F79-1740-4F83-966A-9A0C2B179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ED0BC-FCF4-41D5-87D1-0A63AA90CAC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00088-3535-492E-9536-F430A317D26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800" spc="-1" strike="noStrike">
                <a:solidFill>
                  <a:srgbClr val="ccecff"/>
                </a:solidFill>
                <a:latin typeface="comic"/>
              </a:rPr>
              <a:t>METHODOLOGY.</a:t>
            </a:r>
            <a:r>
              <a:rPr b="0" lang="es-CO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s-CO" sz="3200" spc="-1" strike="noStrike">
                <a:solidFill>
                  <a:srgbClr val="ffffff"/>
                </a:solidFill>
                <a:latin typeface="Comic Sans MS"/>
              </a:rPr>
              <a:t>Students of Grade 10th were trained to use the Mental Maps through Free Mind Program, which will be a tool for processing the project </a:t>
            </a:r>
            <a:r>
              <a:rPr b="1" lang="es-ES" sz="3200" spc="-1" strike="noStrike">
                <a:solidFill>
                  <a:srgbClr val="ffffff"/>
                </a:solidFill>
                <a:latin typeface="Comic Sans MS"/>
              </a:rPr>
              <a:t>“Helping the planet”, the explanation of doing Vitrals and Jclic games that is based on GLASS RECYCLING as solid residue  residue, its  benefits and different us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9T02:51:09Z</dcterms:created>
  <dc:creator>SPAWN</dc:creator>
  <dc:description/>
  <dc:language>en-US</dc:language>
  <cp:lastModifiedBy>FABIAN</cp:lastModifiedBy>
  <dcterms:modified xsi:type="dcterms:W3CDTF">2007-08-31T05:33:37Z</dcterms:modified>
  <cp:revision>5</cp:revision>
  <dc:subject/>
  <dc:title>METODOLOGÍA. </dc:title>
</cp:coreProperties>
</file>