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7C2-4F10-4B34-836E-D6EFA53C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BA6-3689-4863-817F-4C4ED1B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BA3-48AC-49BC-B56F-8DF8B13E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9BE-6BEF-4440-819D-49C0735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9108-8F93-49C3-850C-46AADA08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DA74-6761-4027-84FA-5730735F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13F1-7FBF-4168-A95C-95D3D4F9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06BF-ADE6-4A0B-81D7-9F5A20D3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2818-3DC7-47E3-9657-87CAAD9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2560" cy="60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6DB-B55C-419E-8CB2-8A09CE4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9064-A155-4685-8FD7-37DDD11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562-F5DC-4ADA-9430-978CEC8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C6B-977B-456E-8CE2-8DB6963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C98F-6410-4CC3-B785-A7CF1EA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2068-56D2-417A-B91C-679A0B3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5AC4-3C50-477F-9ECF-388957DA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330E-F84D-40FC-A6ED-8F9C5707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23F-D576-4316-94E2-B5EEE7B5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A40-11CB-456C-B8FF-4DAFFD55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D8A-01BC-486F-AD94-4B29E881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3320"/>
            <a:ext cx="8242560" cy="60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E00-84BB-473F-B389-9641D796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4D4-E3FB-4E7E-A27B-0E42FDF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411-CF8D-41F6-B72C-90F9478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D0A-0949-4808-8958-639E8B5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5320" y="-92880"/>
            <a:ext cx="2771640" cy="6949440"/>
            <a:chOff x="-85320" y="-92880"/>
            <a:chExt cx="2771640" cy="694944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80" y="3991320"/>
              <a:ext cx="1004040" cy="608040"/>
              <a:chOff x="13680" y="3991320"/>
              <a:chExt cx="1004040" cy="60804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107280" y="3975480"/>
                <a:ext cx="183960" cy="328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275400" y="4267080"/>
                <a:ext cx="314280" cy="272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729360" y="4100400"/>
                <a:ext cx="328680" cy="1382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440" y="2602080"/>
              <a:ext cx="2687760" cy="3117240"/>
              <a:chOff x="-1440" y="2602080"/>
              <a:chExt cx="2687760" cy="311724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385920" y="2698920"/>
                <a:ext cx="9763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356400" y="3053880"/>
                <a:ext cx="29052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1400" y="4051440"/>
                <a:ext cx="1834920" cy="1667880"/>
                <a:chOff x="851400" y="4051440"/>
                <a:chExt cx="1834920" cy="166788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1260360" y="3945600"/>
                  <a:ext cx="474840" cy="121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25960" y="4974480"/>
                  <a:ext cx="10980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00200" y="5568840"/>
                  <a:ext cx="199800" cy="846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35240" y="6211800"/>
              <a:ext cx="857520" cy="572040"/>
              <a:chOff x="435240" y="6211800"/>
              <a:chExt cx="857520" cy="57204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1046160" y="6188760"/>
                <a:ext cx="174960" cy="28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799560" y="6491160"/>
                <a:ext cx="30024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74760" y="6385320"/>
                <a:ext cx="312840" cy="120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4280" y="1776600"/>
              <a:ext cx="790560" cy="691560"/>
              <a:chOff x="314280" y="1776600"/>
              <a:chExt cx="790560" cy="69156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84096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96600" y="2153880"/>
                <a:ext cx="3524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214560" y="2205360"/>
                <a:ext cx="36972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760" y="103320"/>
                <a:ext cx="296640" cy="182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25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198386-DE55-45CD-BBF7-DEAFD4D8ADFD}" type="slidenum">
              <a:rPr b="0" lang="en-GB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7424280" y="1960560"/>
                <a:ext cx="906480" cy="8445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080" y="1042200"/>
              <a:ext cx="1044360" cy="1261440"/>
              <a:chOff x="4114080" y="1042200"/>
              <a:chExt cx="1044360" cy="126144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606560" y="1063440"/>
                <a:ext cx="263520" cy="41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663080" y="1573920"/>
                <a:ext cx="448920" cy="34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4087440" y="1974600"/>
                <a:ext cx="469800" cy="174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703120" y="262440"/>
              <a:ext cx="717120" cy="925920"/>
              <a:chOff x="5703120" y="262440"/>
              <a:chExt cx="717120" cy="92592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829840" y="894240"/>
                <a:ext cx="250920" cy="25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668200" y="460440"/>
                <a:ext cx="428760" cy="214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061680" y="435240"/>
                <a:ext cx="447480" cy="109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360" y="5279760"/>
              <a:ext cx="1063080" cy="838080"/>
              <a:chOff x="954360" y="5279760"/>
              <a:chExt cx="1063080" cy="83808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183680" y="5762160"/>
                <a:ext cx="43020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945720" y="5405040"/>
                <a:ext cx="4510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78000" y="424800"/>
              <a:ext cx="1659960" cy="1176120"/>
              <a:chOff x="378000" y="424800"/>
              <a:chExt cx="1659960" cy="117612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47640" y="1079280"/>
                <a:ext cx="368640" cy="514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986400" y="582120"/>
                <a:ext cx="630360" cy="426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267840" y="1085760"/>
                <a:ext cx="658800" cy="21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840"/>
              <a:ext cx="1157040" cy="1608480"/>
              <a:chOff x="7396560" y="3696840"/>
              <a:chExt cx="1157040" cy="16084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451640" y="4741560"/>
                <a:ext cx="3571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43D282-5D04-476C-9C41-F4E67613A51F}" type="slidenum">
              <a:rPr b="0" lang="en-GB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6666"/>
                </a:solidFill>
                <a:latin typeface="comic"/>
              </a:rPr>
              <a:t>GRAMMAR.</a:t>
            </a: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Comic Sans MS"/>
              </a:rPr>
              <a:t>Students of Grade 10th will check their knowledge; they will  read a text about GLASS and they must identify each one of the Grammar concepts according to their Process  in  foreing language (English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GRAMMAR.  </dc:title>
</cp:coreProperties>
</file>