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FEBF-03A8-4F7B-A76D-CE10A0867C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BECOMING RELAXED AND CONCENTRATED ACTIVITY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TUDENTS OF GRADE 10ª  REALLY WORK AS A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REATIVITY, RESPONSABILITY, AND DE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AGINATION AND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RFORMING AN EXCELLENT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NSITIVITY AND FINENESS ARE DRAWN IN THIS VI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RUSHED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LASS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SIGNING THE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EAM WORKING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INTING THE VI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VITRAL POLIS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YNAMIC ACTIVITY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TUDENTS OF GRADE 10B WORKING IN THEIR VIT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535-CCC1-42DB-848B-E127BF03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B4F-AEC7-4589-87B8-759C52CE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1F8-5472-4914-94B6-A26B15A5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807-75D4-4413-B458-E686A015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A93D-9E26-491C-A264-8AB7302C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8783-EAD9-47FC-B39D-C44AA72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C175-F1CE-4A39-B86B-CCAB591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DB57-E8E5-45D3-B926-D545E2D7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3936-D811-401A-8818-5A932B7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EBA6-79C6-49BD-8855-1BB26CA9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946-1886-4776-957B-4B7EB03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016-C3EC-4D7C-A344-E4E52858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DC6-C041-4F9A-AE06-9562D869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5286-75A0-4653-8949-CB3599B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E615-70AE-406A-A479-F6328961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F9F-17A9-4165-9A69-848E64E1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484-EAD0-467C-A21C-CC7CAFCD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34DE-DA15-4FA8-9524-5DBB53AF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5B66-B28A-4B3A-99F5-3159ED1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5A75-47E7-49D7-9D3B-A31464B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310C-5CF1-4880-8574-05D8AF84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C8B7-2E73-495E-A9CD-5B617F0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737-38AB-45C0-95A8-3E42C41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2C57-AFBC-4A60-99BE-7B86179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E8B6-9C85-4372-AB3C-E8F7F1A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184B3-809A-440F-810E-29DDB18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8AC7-3624-444F-B398-4EF8F28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867A-0CF4-41C5-A2EE-698F7AB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80AA-BC45-42F1-A520-514527D7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1BBC-6284-4C45-925C-8B1B9ADD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313-D08C-4394-A896-97F4512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2BA-E8B6-4658-8948-487CA4D3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E7D-F82A-4661-BFE9-765CC051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242-EAEC-4F3D-B782-EA43A4C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414-1A11-49E0-A3E9-A7A8176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D44-666A-4B9E-9ABC-2FE82AE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C8F-EBBD-4EA4-9AAC-6B5F0BD81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2B3-99E2-4DDF-83CF-685478DF0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9DC2-1D80-443E-8D90-CA2E3945DD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 rot="5400000">
            <a:off x="2122560" y="2205720"/>
            <a:ext cx="4969080" cy="208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comic"/>
              </a:rPr>
              <a:t>VITRAL</a:t>
            </a:r>
            <a:endParaRPr b="0" i="1" lang="en-US" sz="9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45:14Z</dcterms:created>
  <dc:creator>SPAWN</dc:creator>
  <dc:description/>
  <dc:language>en-US</dc:language>
  <cp:lastModifiedBy>FABIAN</cp:lastModifiedBy>
  <dcterms:modified xsi:type="dcterms:W3CDTF">2007-08-31T04:44:12Z</dcterms:modified>
  <cp:revision>7</cp:revision>
  <dc:subject/>
  <dc:title>Diapositiva 1</dc:title>
</cp:coreProperties>
</file>