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524-7020-4C97-8D6D-7C83C714F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C4E-E37B-440D-9DD0-C2FA7EA3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E20-3E60-4603-8F69-60D1E8F8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B3B-4731-4200-947F-D762BEC3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000-FAC6-4E11-92A5-41E6DE4C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E8A-175B-4D8C-8C71-07B062C7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63F-4F23-48A0-8F7B-7210699B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9C8-62C2-4A19-A781-519127A7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0D7-E233-4EC3-9BB3-53163F27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8A7-85BC-42D5-8C3A-1B83D797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5A5-67EE-49D8-B885-DC42C9F9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442-C147-4C3C-AD28-D21B766B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2BA4-A76A-410F-A9A6-4ABE266F8C9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3492360" y="2133720"/>
            <a:ext cx="3456000" cy="2214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HE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4067280" y="2852640"/>
            <a:ext cx="2400120" cy="1025640"/>
          </a:xfrm>
          <a:prstGeom prst="rect">
            <a:avLst/>
          </a:prstGeom>
          <a:ln w="0">
            <a:noFill/>
          </a:ln>
        </p:spPr>
      </p:pic>
      <p:sp>
        <p:nvSpPr>
          <p:cNvPr id="43" name="Cloud"/>
          <p:cNvSpPr/>
          <p:nvPr/>
        </p:nvSpPr>
        <p:spPr>
          <a:xfrm>
            <a:off x="2268360" y="0"/>
            <a:ext cx="4680000" cy="206064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R FOO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AINS CARBOHOYDRATES. FATS, VITAMINS. </a:t>
            </a:r>
            <a:r>
              <a:rPr b="1" lang="es-ES" sz="1400" spc="-1" strike="noStrike">
                <a:solidFill>
                  <a:srgbClr val="ff0066"/>
                </a:solidFill>
                <a:latin typeface="Arial"/>
              </a:rPr>
              <a:t>MINERAL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, PROTEINS, THAT ARE A SOURCE OF ENERGY TO THE GOOD FUNCTION OF OUR BOD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0" y="1989000"/>
            <a:ext cx="3276720" cy="16560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HE NUTRITION IS IMPORTANT BECAUSE GIVES ENERGY MAKES GROW AND REPAIRS OUR 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0" y="3789360"/>
            <a:ext cx="3851280" cy="25192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HERE ARE FIVE MAJOR GROU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TEI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BOHYD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FA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ITAMIN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TEI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loud"/>
          <p:cNvSpPr/>
          <p:nvPr/>
        </p:nvSpPr>
        <p:spPr>
          <a:xfrm>
            <a:off x="5292720" y="4437000"/>
            <a:ext cx="3166920" cy="2016360"/>
          </a:xfrm>
          <a:prstGeom prst="pie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L THE FOOD CONTAINS DIFFERENT TYPES OF NUTRIENTS THAT MAINTAINS US HEALTH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 flipH="1">
            <a:off x="2916360" y="306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 flipH="1">
            <a:off x="3419280" y="3789360"/>
            <a:ext cx="21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5508720" y="429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 flipV="1">
            <a:off x="5003640" y="206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3:41:18Z</dcterms:created>
  <dc:creator>Equipo1</dc:creator>
  <dc:description/>
  <dc:language>en-US</dc:language>
  <cp:lastModifiedBy>MARIA ALEJANDRA GARZON</cp:lastModifiedBy>
  <dcterms:modified xsi:type="dcterms:W3CDTF">2007-09-03T05:53:37Z</dcterms:modified>
  <cp:revision>4</cp:revision>
  <dc:subject/>
  <dc:title>Diapositiva 1</dc:title>
</cp:coreProperties>
</file>