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2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360" y="-8652240"/>
            <a:ext cx="360" cy="1869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0F85-5FB1-4D90-BEF4-01C9C6E3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DC57-C662-46C3-B746-552E55FA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666-97CA-4828-A796-4BD334E5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58E-B8E1-4268-BA0B-019FE3B9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EB1-9865-4E89-9037-2B160918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BAD-4146-4F2D-83B5-CC4CDC05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6A8-416F-4537-971F-EF178403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9D9-254F-4AA1-BF9A-7F5DF57C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C66-813B-49DF-8A0B-FEEF4F6A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46F-0158-4A80-88C2-3A0DBF3F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E9C-4875-4E25-970B-BDA6664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989-919D-4A0F-B604-B5649285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B98382F-93EF-441F-B5A0-0A039882B2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36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000075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ENSIBILICEMONOS ¡¡¡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STITUCION EDUCATIVA LICEO ALEJANDRO DE HUMBOLDT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PAYAN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1413000"/>
            <a:ext cx="5256360" cy="70344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LA MALNUTRI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22360" y="2340000"/>
            <a:ext cx="1817640" cy="270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0360" y="2519280"/>
            <a:ext cx="2879640" cy="2340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060720" y="2519280"/>
            <a:ext cx="2444760" cy="2340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 cómo estamos en Colombi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9280" y="1619280"/>
            <a:ext cx="47754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CAU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% DE LOS NIÑOS MENORES DE 5 AÑOS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NUTRICION AGUDA, 42% CON DESNUTRICION C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 36% CON DESNUTRICION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CIONES DE POBREZA Y MISERIA,NBI &gt;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ITUACION DE LA POBLACION DESPLAZADA.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AYAN HAY MAS DE 13.000 DE DESPLAZADOS DE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ERENTES DEPARTAMENTOS DEL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6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ferencia de imágenes utiliz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1 imagen 1 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ttp://www.rodelu.net/2004/por041209a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1 imagen 3  http://www.javeriana.edu.co/Facultades/Ciencias/neurobioquimica/libros/perinatal/malnutricione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1 imagen 2 http://www.fondoindigena.org/notiteca_nota.shtml?x=101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2 http://www.donbosco.es/universojoven/image/obesidad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3 http://www.redcross.int/es/MAG/magazine2005_3/focus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4 http://www.webzinemaker.com/admi/m6/page.php3?num_web=6984&amp;rubr=4&amp;id=299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5 imagen 2 http://ialc.wsu.edu/lifestyle/Pullman%20Life/pages/Local%20Supermarke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5 imagen 1 http://apartado-antioquia.gov.co/sitio.shtml?apc=m-G1--&amp;x=18024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6 http://www.soberania.org/Articulos/articulo_2181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7 http://www.prensalibre.com/especiales/ME/hambruna/foto18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8 http://news.bbc.co.uk/hi/spanish/international/newsid_3699000/3699415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9 http://www.cciseta.com/web/htm/notre018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Diapositiva 10 http://economiaconmaximo.blogia.com/2007/enero.ph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6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259920"/>
            <a:ext cx="796752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 EL  MUN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0720" y="1528920"/>
            <a:ext cx="7920000" cy="47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5884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 hay comida p’ tanta gent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897440" cy="5068800"/>
          </a:xfrm>
          <a:prstGeom prst="rect">
            <a:avLst/>
          </a:prstGeom>
          <a:solidFill>
            <a:srgbClr val="66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da día nacen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30.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iños (as)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 AÑO CUANTOS. Reflexi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planeta deberá suministrar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 uno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6 añ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subsis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 el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05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a pob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ndial podría llegar a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1.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illones de h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2478" t="0" r="27847" b="0"/>
          <a:stretch/>
        </p:blipFill>
        <p:spPr>
          <a:xfrm>
            <a:off x="5076720" y="1557360"/>
            <a:ext cx="3888000" cy="5111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108000" y="549000"/>
            <a:ext cx="3456000" cy="59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lones de personas padecen hambre en el mundo, de las cuales 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6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tán ubicadas en los países más pobres. 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M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,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gundos muere una persona por falta de al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2472" t="0" r="0" b="0"/>
          <a:stretch/>
        </p:blipFill>
        <p:spPr>
          <a:xfrm>
            <a:off x="3419640" y="620640"/>
            <a:ext cx="5557680" cy="587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MBRE MUNDIAL - EN MEDIO DE LA ABUNDANCIA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1916280"/>
            <a:ext cx="3097440" cy="222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y se cuenta con 500 kilos de tubérculos y cereales/año por cada habitante del planeta, gracias a la “modernización agrícol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58972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¡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FLEXIONEMOS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00360" y="3500280"/>
            <a:ext cx="2365200" cy="221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60360" y="1440000"/>
            <a:ext cx="2266920" cy="210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68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68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6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003280" y="189000"/>
            <a:ext cx="4140360" cy="34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los que si comen, están enferm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/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s alimentos que se ofrecen en los mercados frescos o procesados, están contaminados y tienen poco valor nu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789360"/>
            <a:ext cx="38894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Mucho de lo que comemos produce alergias alimentarias, cáncer, intoxicaciones y desordenes metabólicos  300 millones de personas son ob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36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0000" y="3600360"/>
            <a:ext cx="4464000" cy="325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16400" cy="653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mujeres son las más afectadas y precisamente la insuficiente alimentación de las madres es la causa de la muerte de muchos niños en los países en     vías de desarroll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00720" y="87480"/>
            <a:ext cx="4644720" cy="677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464000" cy="648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illones de niños menores d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ños mueren cada año por causas relacionadas con la Desnutr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 total d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50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llones de niños en el mundo pueden ser definidos como desnutridos y no parecer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 rot="5400000">
            <a:off x="4057920" y="1209960"/>
            <a:ext cx="57862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356000" y="-27360"/>
            <a:ext cx="4788000" cy="70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l daño causado por la falta de alimentación en los primeros años de vida, no puede remediarse completamente más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 largo plazo, las enfermedades derivadas impiden que el cuerpo absorba los nutrientes vitales, llegando a un estado de desnutrición cró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0952" t="0" r="11613" b="0"/>
          <a:stretch/>
        </p:blipFill>
        <p:spPr>
          <a:xfrm>
            <a:off x="0" y="22320"/>
            <a:ext cx="4321080" cy="683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8-23T21:52:09Z</dcterms:modified>
  <cp:revision>11</cp:revision>
  <dc:subject/>
  <dc:title>SENSIBILICEMONOS ¡¡¡        INSTITUCION EDUCATIVA LICEO ALEJANDRO DE HUMBOLDT POPAYAN, 2006</dc:title>
</cp:coreProperties>
</file>