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69D-017E-4917-9FA1-AFBA57E5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82E-614C-4491-B19E-4BD8A71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8DD-3B49-4AA3-A1E6-D1DDAC09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056-A48B-458C-AA13-390AAAC0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8606-7269-4A77-ADB4-B5754DC5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4B5-6471-4D59-94A3-72D1CF7E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CD9-2E28-41F9-8DFB-62D99EF8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4A2B-3B9F-4462-BE3D-A434249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963F-BF6A-413C-BD8A-618117A4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37D-8C78-4F8E-92D8-E3FE3B75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E41C-643E-4A69-B245-066A7CC7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02F-9758-41B8-9844-7F6F8686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A3A2-00E5-4847-AEDB-4973DFF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D49D-B0BD-4EB9-8E47-65B2AFD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2511-CF4D-47F9-A183-AB23623E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C1E0-88A3-4FD6-A7C9-F5C2E3E4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CA21-8243-47AE-BE9F-87688EC4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242-9A5F-4433-AE64-8C7F47C0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508-1684-4BF3-B213-066E69CC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92D-1F99-46E1-8DD6-7D329545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DC6-597A-4EBA-BCA2-A5D76E8C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9AA-1DAC-44AF-A866-352C0FE7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435-E693-44E8-81D9-280C920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B9D-9144-4ECF-8DC8-AA4DAFB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421-ACBB-4B4E-82EC-642DBF23F8DC}" type="slidenum">
              <a:rPr b="0" lang="es-E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Tahoma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46F7-6105-4AF6-B8D2-9229AA39CBC2}" type="slidenum">
              <a:rPr b="0" lang="es-E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2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00"/>
                </a:solidFill>
                <a:latin typeface="Arial Black"/>
              </a:rPr>
              <a:t>A DELICIUS FOOD</a:t>
            </a:r>
            <a:br>
              <a:rPr sz="2000"/>
            </a:br>
            <a:r>
              <a:rPr b="1" lang="en-GB" sz="2000" spc="-1" strike="noStrike">
                <a:solidFill>
                  <a:srgbClr val="ffcc00"/>
                </a:solidFill>
                <a:latin typeface="Arial Black"/>
              </a:rPr>
              <a:t>“THE EGGS”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0" y="189000"/>
            <a:ext cx="2448000" cy="792000"/>
          </a:xfrm>
          <a:prstGeom prst="wedgeRoundRectCallout">
            <a:avLst>
              <a:gd name="adj1" fmla="val 91439"/>
              <a:gd name="adj2" fmla="val 121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y eggs contain triglycerids rich in saturated fat phospholipios and chorest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0" y="1268280"/>
            <a:ext cx="2122560" cy="1081080"/>
          </a:xfrm>
          <a:prstGeom prst="wedgeRoundRectCallout">
            <a:avLst>
              <a:gd name="adj1" fmla="val 110060"/>
              <a:gd name="adj2" fmla="val 1314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An Eggs consist of parts fiv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Shell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yolk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Albumen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Chalaz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espace full of ai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6516720" y="404640"/>
            <a:ext cx="2376360" cy="863640"/>
          </a:xfrm>
          <a:prstGeom prst="wedgeRoundRectCallout">
            <a:avLst>
              <a:gd name="adj1" fmla="val -79657"/>
              <a:gd name="adj2" fmla="val 6231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y has considerable nutricional valve they contain amino acids that the human organism cant’t produ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6516720" y="1628640"/>
            <a:ext cx="2627280" cy="936720"/>
          </a:xfrm>
          <a:prstGeom prst="wedgeRoundRectCallout">
            <a:avLst>
              <a:gd name="adj1" fmla="val -83231"/>
              <a:gd name="adj2" fmla="val -254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eggs contanin a modest quantcty of fast compared to 16-47% pound cheese and 35% in sala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6443640" y="3645000"/>
            <a:ext cx="2521080" cy="792000"/>
          </a:xfrm>
          <a:prstGeom prst="wedgeRoundRectCallout">
            <a:avLst>
              <a:gd name="adj1" fmla="val -85074"/>
              <a:gd name="adj2" fmla="val -12635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e white is sorrounded by a shell which in turn is made up of two buy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6" name="AutoShape 10"/>
          <p:cNvSpPr/>
          <p:nvPr/>
        </p:nvSpPr>
        <p:spPr>
          <a:xfrm>
            <a:off x="1258920" y="2492280"/>
            <a:ext cx="1297080" cy="865440"/>
          </a:xfrm>
          <a:prstGeom prst="cloudCallout">
            <a:avLst>
              <a:gd name="adj1" fmla="val 98592"/>
              <a:gd name="adj2" fmla="val -24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ff"/>
                </a:solidFill>
                <a:latin typeface="Arial"/>
              </a:rPr>
              <a:t>PARTS OF  EGG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7" name="AutoShape 11"/>
          <p:cNvSpPr/>
          <p:nvPr/>
        </p:nvSpPr>
        <p:spPr>
          <a:xfrm>
            <a:off x="0" y="3213000"/>
            <a:ext cx="914400" cy="228600"/>
          </a:xfrm>
          <a:prstGeom prst="wedgeRoundRectCallout">
            <a:avLst>
              <a:gd name="adj1" fmla="val 73787"/>
              <a:gd name="adj2" fmla="val -1527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The Shel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8" name="AutoShape 12"/>
          <p:cNvSpPr/>
          <p:nvPr/>
        </p:nvSpPr>
        <p:spPr>
          <a:xfrm rot="292800">
            <a:off x="-4680" y="3763440"/>
            <a:ext cx="1476360" cy="362160"/>
          </a:xfrm>
          <a:prstGeom prst="wedgeEllipseCallout">
            <a:avLst>
              <a:gd name="adj1" fmla="val -20171"/>
              <a:gd name="adj2" fmla="val -102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Compos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59" name="AutoShape 13"/>
          <p:cNvSpPr/>
          <p:nvPr/>
        </p:nvSpPr>
        <p:spPr>
          <a:xfrm rot="20547000">
            <a:off x="244080" y="4703400"/>
            <a:ext cx="1441440" cy="488880"/>
          </a:xfrm>
          <a:prstGeom prst="wedgeEllipseCallout">
            <a:avLst>
              <a:gd name="adj1" fmla="val 22527"/>
              <a:gd name="adj2" fmla="val -125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ff"/>
                </a:solidFill>
                <a:latin typeface="Arial"/>
              </a:rPr>
              <a:t>Calcium and</a:t>
            </a:r>
            <a:endParaRPr b="0" lang="en-US" sz="8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0" name="AutoShape 14"/>
          <p:cNvSpPr/>
          <p:nvPr/>
        </p:nvSpPr>
        <p:spPr>
          <a:xfrm>
            <a:off x="971640" y="5261040"/>
            <a:ext cx="699840" cy="399960"/>
          </a:xfrm>
          <a:prstGeom prst="wedgeEllipseCallout">
            <a:avLst>
              <a:gd name="adj1" fmla="val -38888"/>
              <a:gd name="adj2" fmla="val -64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ff"/>
                </a:solidFill>
                <a:latin typeface="Arial"/>
              </a:rPr>
              <a:t>An</a:t>
            </a: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1" name="AutoShape 15"/>
          <p:cNvSpPr/>
          <p:nvPr/>
        </p:nvSpPr>
        <p:spPr>
          <a:xfrm rot="20271000">
            <a:off x="30240" y="5776920"/>
            <a:ext cx="1249200" cy="747720"/>
          </a:xfrm>
          <a:prstGeom prst="wedgeEllipseCallout">
            <a:avLst>
              <a:gd name="adj1" fmla="val 36587"/>
              <a:gd name="adj2" fmla="val -60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2" name="AutoShape 16"/>
          <p:cNvSpPr/>
          <p:nvPr/>
        </p:nvSpPr>
        <p:spPr>
          <a:xfrm rot="20311800">
            <a:off x="1187280" y="6021000"/>
            <a:ext cx="1382760" cy="636480"/>
          </a:xfrm>
          <a:prstGeom prst="wedgeEllipseCallout">
            <a:avLst>
              <a:gd name="adj1" fmla="val -7916"/>
              <a:gd name="adj2" fmla="val -111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Phospat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3" name="AutoShape 17"/>
          <p:cNvSpPr/>
          <p:nvPr/>
        </p:nvSpPr>
        <p:spPr>
          <a:xfrm>
            <a:off x="1908000" y="4005360"/>
            <a:ext cx="914400" cy="228600"/>
          </a:xfrm>
          <a:prstGeom prst="wedgeRoundRectCallout">
            <a:avLst>
              <a:gd name="adj1" fmla="val -31074"/>
              <a:gd name="adj2" fmla="val -30694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The Yolk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4" name="AutoShape 18"/>
          <p:cNvSpPr/>
          <p:nvPr/>
        </p:nvSpPr>
        <p:spPr>
          <a:xfrm>
            <a:off x="1835280" y="4941720"/>
            <a:ext cx="2160360" cy="648000"/>
          </a:xfrm>
          <a:prstGeom prst="wedgeRoundRectCallout">
            <a:avLst>
              <a:gd name="adj1" fmla="val -32217"/>
              <a:gd name="adj2" fmla="val -148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t is positioned for an held in the center by elastic-band-like  structur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5" name="AutoShape 19"/>
          <p:cNvSpPr/>
          <p:nvPr/>
        </p:nvSpPr>
        <p:spPr>
          <a:xfrm>
            <a:off x="3203640" y="4221000"/>
            <a:ext cx="1368360" cy="287640"/>
          </a:xfrm>
          <a:prstGeom prst="wedgeRoundRectCallout">
            <a:avLst>
              <a:gd name="adj1" fmla="val -115893"/>
              <a:gd name="adj2" fmla="val -3632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The albume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6" name="AutoShape 20"/>
          <p:cNvSpPr/>
          <p:nvPr/>
        </p:nvSpPr>
        <p:spPr>
          <a:xfrm>
            <a:off x="4140360" y="4941720"/>
            <a:ext cx="1503360" cy="773280"/>
          </a:xfrm>
          <a:prstGeom prst="cloudCallout">
            <a:avLst>
              <a:gd name="adj1" fmla="val -61527"/>
              <a:gd name="adj2" fmla="val -1103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Weight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Aprox 20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7" name="AutoShape 21"/>
          <p:cNvSpPr/>
          <p:nvPr/>
        </p:nvSpPr>
        <p:spPr>
          <a:xfrm>
            <a:off x="3635280" y="5877000"/>
            <a:ext cx="2016360" cy="792000"/>
          </a:xfrm>
          <a:prstGeom prst="cloudCallout">
            <a:avLst>
              <a:gd name="adj1" fmla="val -2990"/>
              <a:gd name="adj2" fmla="val -95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s made of protein and wat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8" name="AutoShape 22"/>
          <p:cNvSpPr/>
          <p:nvPr/>
        </p:nvSpPr>
        <p:spPr>
          <a:xfrm>
            <a:off x="4788000" y="3933720"/>
            <a:ext cx="1368360" cy="358920"/>
          </a:xfrm>
          <a:prstGeom prst="wedgeRoundRectCallout">
            <a:avLst>
              <a:gd name="adj1" fmla="val -210671"/>
              <a:gd name="adj2" fmla="val -255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The Chalaz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9" name="AutoShape 23"/>
          <p:cNvSpPr/>
          <p:nvPr/>
        </p:nvSpPr>
        <p:spPr>
          <a:xfrm>
            <a:off x="6227640" y="5229360"/>
            <a:ext cx="2476800" cy="1079280"/>
          </a:xfrm>
          <a:prstGeom prst="wedgeEllipseCallout">
            <a:avLst>
              <a:gd name="adj1" fmla="val -81472"/>
              <a:gd name="adj2" fmla="val -13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ff"/>
                </a:solidFill>
                <a:latin typeface="Arial"/>
              </a:rPr>
              <a:t>Constitute of nutritionally valvuble parts phosphor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370" name="24 Imagen" descr="01.gif"/>
          <p:cNvPicPr/>
          <p:nvPr/>
        </p:nvPicPr>
        <p:blipFill>
          <a:blip r:embed="rId1"/>
          <a:stretch/>
        </p:blipFill>
        <p:spPr>
          <a:xfrm>
            <a:off x="3433680" y="1000080"/>
            <a:ext cx="2138400" cy="21686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2000" fill="hold"/>
                                        <p:tgtEl>
                                          <p:spTgt spid="3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06:38:36Z</dcterms:created>
  <dc:creator>JUAN SEBASTIAN</dc:creator>
  <dc:description/>
  <dc:language>en-US</dc:language>
  <cp:lastModifiedBy>MARIA ALEJANDRA GARZON</cp:lastModifiedBy>
  <dcterms:modified xsi:type="dcterms:W3CDTF">2007-09-03T05:49:09Z</dcterms:modified>
  <cp:revision>8</cp:revision>
  <dc:subject/>
  <dc:title>A DELICIUS FOOD “THE EGGS”</dc:title>
</cp:coreProperties>
</file>