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Img"/>
          </p:nvPr>
        </p:nvSpPr>
        <p:spPr>
          <a:xfrm>
            <a:off x="1312560" y="1026720"/>
            <a:ext cx="493236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-358920" algn="ctr"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7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7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7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7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7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7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7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7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1240" y="69984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7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7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7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7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7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90560" indent="-431640">
              <a:lnSpc>
                <a:spcPct val="97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079640" indent="-432000">
              <a:lnSpc>
                <a:spcPct val="97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366920" indent="-432000">
              <a:lnSpc>
                <a:spcPct val="97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1655640" indent="-431640">
              <a:lnSpc>
                <a:spcPct val="97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1655640" indent="-431640">
              <a:lnSpc>
                <a:spcPct val="97000"/>
              </a:lnSpc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1655640" indent="-431640">
              <a:lnSpc>
                <a:spcPct val="97000"/>
              </a:lnSpc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904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TIPOS DE ALIMENTOS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1805040"/>
            <a:ext cx="8101080" cy="48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00000" y="2160720"/>
            <a:ext cx="810108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600" spc="-1" strike="noStrike" u="sng">
                <a:solidFill>
                  <a:srgbClr val="660066"/>
                </a:solidFill>
                <a:uFillTx/>
                <a:latin typeface="Arial"/>
              </a:rPr>
              <a:t>ALIMENTOS PROTECTORES O CONSTRUCT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79640" y="3240000"/>
            <a:ext cx="7740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DejaVu Sans"/>
              </a:rPr>
              <a:t>Contienen los nutrientes  que utiliza el organismo para </a:t>
            </a:r>
            <a:r>
              <a:rPr b="1" lang="en-GB" sz="2600" spc="-1" strike="noStrike">
                <a:solidFill>
                  <a:srgbClr val="000000"/>
                </a:solidFill>
                <a:latin typeface="DejaVu Sans"/>
              </a:rPr>
              <a:t>construir y reparar</a:t>
            </a:r>
            <a:r>
              <a:rPr b="0" lang="en-GB" sz="2600" spc="-1" strike="noStrike">
                <a:solidFill>
                  <a:srgbClr val="000000"/>
                </a:solidFill>
                <a:latin typeface="DejaVu Sans"/>
              </a:rPr>
              <a:t> los músculos, huesos, la sangre y todos los órganos del cuerp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904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TIPOS DE ALIMENTOS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1805040"/>
            <a:ext cx="8101080" cy="48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2160720"/>
            <a:ext cx="810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600" spc="-1" strike="noStrike" u="sng">
                <a:solidFill>
                  <a:srgbClr val="660066"/>
                </a:solidFill>
                <a:uFillTx/>
                <a:latin typeface="Arial"/>
              </a:rPr>
              <a:t>ALIMENTOS REGULAD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79640" y="3240000"/>
            <a:ext cx="7740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DejaVu Sans"/>
              </a:rPr>
              <a:t>Estos alimentos contienen los nutrientes que </a:t>
            </a:r>
            <a:r>
              <a:rPr b="1" lang="en-GB" sz="2600" spc="-1" strike="noStrike">
                <a:solidFill>
                  <a:srgbClr val="000000"/>
                </a:solidFill>
                <a:latin typeface="DejaVu Sans"/>
              </a:rPr>
              <a:t>regulan el funcionamiento</a:t>
            </a:r>
            <a:r>
              <a:rPr b="0" lang="en-GB" sz="2600" spc="-1" strike="noStrike">
                <a:solidFill>
                  <a:srgbClr val="000000"/>
                </a:solidFill>
                <a:latin typeface="DejaVu Sans"/>
              </a:rPr>
              <a:t> de todo el organismo. También se les conoce como vitaminas y minera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904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TIPOS DE ALIMENTOS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1805040"/>
            <a:ext cx="8101080" cy="48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00000" y="2160720"/>
            <a:ext cx="810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600" spc="-1" strike="noStrike" u="sng">
                <a:solidFill>
                  <a:srgbClr val="660066"/>
                </a:solidFill>
                <a:uFillTx/>
                <a:latin typeface="Arial"/>
              </a:rPr>
              <a:t>ALIMENTOS ENERGÉTI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79640" y="3240000"/>
            <a:ext cx="77403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DejaVu Sans"/>
              </a:rPr>
              <a:t>Contienen los nutrientes que son necesarios </a:t>
            </a:r>
            <a:r>
              <a:rPr b="1" lang="en-GB" sz="2600" spc="-1" strike="noStrike">
                <a:solidFill>
                  <a:srgbClr val="000000"/>
                </a:solidFill>
                <a:latin typeface="DejaVu Sans"/>
              </a:rPr>
              <a:t>para dar al organismo la energía</a:t>
            </a:r>
            <a:r>
              <a:rPr b="0" lang="en-GB" sz="2600" spc="-1" strike="noStrike">
                <a:solidFill>
                  <a:srgbClr val="000000"/>
                </a:solidFill>
                <a:latin typeface="DejaVu Sans"/>
              </a:rPr>
              <a:t> que necesita para realizar las diferentes funcion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dor</dc:creator>
  <dc:description>Presentación general de una novedad considerando los deseos de los clientes</dc:description>
  <dc:language>en-US</dc:language>
  <cp:lastModifiedBy/>
  <cp:revision>0</cp:revision>
  <dc:subject/>
  <dc:title/>
</cp:coreProperties>
</file>