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8AB1-93FB-4605-A33E-0DC5C7B0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617-9D61-4687-BAD0-7EB1EA06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4E3-10D0-459C-B86F-57780266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77B3-E347-4A3F-B677-CF0485AE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4A3-906A-47B5-90DF-E1285E34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0027-2632-4AE0-A948-6A33301E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304B-D306-44F1-A72B-D8D8D9AD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03F-9365-43F5-9E6A-2CE2CD8D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D9F-2F93-44B9-B0C4-D00D563D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8A8-B5E7-4FE0-9036-72AE94A3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0A68-2FBB-4885-A023-6A685427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01E2-9831-4DB4-AE41-F940E14F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8116-91A3-4D26-9E6F-6A2CC56C8E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Es un conjunto de personas que se organizan para llevar a cabo una determinada t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Donde cada persona adquiere un compromiso de lealtad para con su equ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3745080" cy="3600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5364000" y="90792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ff"/>
                </a:solidFill>
                <a:latin typeface="Comic Sans MS"/>
              </a:rPr>
              <a:t>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21:43:16Z</dcterms:created>
  <dc:creator>doctorado</dc:creator>
  <dc:description/>
  <dc:language>en-US</dc:language>
  <cp:lastModifiedBy>MARIA ALEJANDRA GARZON</cp:lastModifiedBy>
  <dcterms:modified xsi:type="dcterms:W3CDTF">2007-09-02T16:24:09Z</dcterms:modified>
  <cp:revision>2</cp:revision>
  <dc:subject/>
  <dc:title> . </dc:title>
</cp:coreProperties>
</file>